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1678-1993-494B-851E-3A630409D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30F4-1AA1-46CB-9893-7BD1E74B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11B4-6388-4AEC-8389-EFF4447C1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8B13-855A-410F-846D-2F2F08742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6EA1-0161-4F78-A000-80CE7F98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2AAF-361A-4D63-852A-13ED0449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D1F3-8F86-4C14-BD34-02260FBD8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C68A-8E98-4D0A-A287-C5BEE220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E8F4-B7FE-42A1-9616-3BD28C5F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C453-BFBD-4084-8AF9-1756AAA8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C849-5FAE-4A5D-A49C-C1A230FE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F819-D5BA-4955-ABB6-3071D35B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7AF6-D153-4871-BB01-BAAABC124A8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07E9-6A64-405E-9DB1-C696C98BB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50920" y="1116000"/>
            <a:ext cx="4105080" cy="4103640"/>
            <a:chOff x="250920" y="1116000"/>
            <a:chExt cx="4105080" cy="4103640"/>
          </a:xfrm>
        </p:grpSpPr>
        <p:sp>
          <p:nvSpPr>
            <p:cNvPr id="42" name=""/>
            <p:cNvSpPr/>
            <p:nvPr/>
          </p:nvSpPr>
          <p:spPr>
            <a:xfrm>
              <a:off x="250920" y="1116000"/>
              <a:ext cx="4105080" cy="4103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322200" y="1187280"/>
              <a:ext cx="3962160" cy="3960000"/>
              <a:chOff x="322200" y="1187280"/>
              <a:chExt cx="3962160" cy="3960000"/>
            </a:xfrm>
          </p:grpSpPr>
          <p:grpSp>
            <p:nvGrpSpPr>
              <p:cNvPr id="44" name=""/>
              <p:cNvGrpSpPr/>
              <p:nvPr/>
            </p:nvGrpSpPr>
            <p:grpSpPr>
              <a:xfrm>
                <a:off x="322200" y="1187280"/>
                <a:ext cx="3962160" cy="3960000"/>
                <a:chOff x="322200" y="1187280"/>
                <a:chExt cx="3962160" cy="3960000"/>
              </a:xfrm>
            </p:grpSpPr>
            <p:grpSp>
              <p:nvGrpSpPr>
                <p:cNvPr id="45" name=""/>
                <p:cNvGrpSpPr/>
                <p:nvPr/>
              </p:nvGrpSpPr>
              <p:grpSpPr>
                <a:xfrm>
                  <a:off x="323640" y="1187280"/>
                  <a:ext cx="3960720" cy="1655280"/>
                  <a:chOff x="323640" y="1187280"/>
                  <a:chExt cx="3960720" cy="165528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>
                    <a:off x="2628720" y="1187280"/>
                    <a:ext cx="1655640" cy="16552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23640" y="1187280"/>
                    <a:ext cx="1655640" cy="16552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1152360" y="1978920"/>
                    <a:ext cx="23176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" name=""/>
                <p:cNvGrpSpPr/>
                <p:nvPr/>
              </p:nvGrpSpPr>
              <p:grpSpPr>
                <a:xfrm>
                  <a:off x="322200" y="3492000"/>
                  <a:ext cx="3960720" cy="1655280"/>
                  <a:chOff x="322200" y="3492000"/>
                  <a:chExt cx="3960720" cy="1655280"/>
                </a:xfrm>
              </p:grpSpPr>
              <p:sp>
                <p:nvSpPr>
                  <p:cNvPr id="50" name=""/>
                  <p:cNvSpPr/>
                  <p:nvPr/>
                </p:nvSpPr>
                <p:spPr>
                  <a:xfrm>
                    <a:off x="2627280" y="3492000"/>
                    <a:ext cx="1655640" cy="16552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322200" y="3492000"/>
                    <a:ext cx="1655640" cy="16552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1150920" y="4283640"/>
                    <a:ext cx="23176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" name=""/>
                <p:cNvSpPr/>
                <p:nvPr/>
              </p:nvSpPr>
              <p:spPr>
                <a:xfrm flipV="1">
                  <a:off x="1170000" y="1964520"/>
                  <a:ext cx="0" cy="2317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 flipV="1">
                  <a:off x="3473280" y="1978920"/>
                  <a:ext cx="0" cy="2317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664920" y="1474560"/>
                <a:ext cx="3313440" cy="3312360"/>
                <a:chOff x="664920" y="1474560"/>
                <a:chExt cx="3313440" cy="3312360"/>
              </a:xfrm>
            </p:grpSpPr>
            <p:grpSp>
              <p:nvGrpSpPr>
                <p:cNvPr id="56" name=""/>
                <p:cNvGrpSpPr/>
                <p:nvPr/>
              </p:nvGrpSpPr>
              <p:grpSpPr>
                <a:xfrm>
                  <a:off x="664920" y="2626560"/>
                  <a:ext cx="3313440" cy="1007640"/>
                  <a:chOff x="664920" y="2626560"/>
                  <a:chExt cx="3313440" cy="1007640"/>
                </a:xfrm>
              </p:grpSpPr>
              <p:sp>
                <p:nvSpPr>
                  <p:cNvPr id="57" name=""/>
                  <p:cNvSpPr/>
                  <p:nvPr/>
                </p:nvSpPr>
                <p:spPr>
                  <a:xfrm>
                    <a:off x="664920" y="2626560"/>
                    <a:ext cx="1008360" cy="100764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2970000" y="2626560"/>
                    <a:ext cx="1008360" cy="100764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"/>
                <p:cNvGrpSpPr/>
                <p:nvPr/>
              </p:nvGrpSpPr>
              <p:grpSpPr>
                <a:xfrm>
                  <a:off x="1817640" y="1474560"/>
                  <a:ext cx="1008000" cy="3312360"/>
                  <a:chOff x="1817640" y="1474560"/>
                  <a:chExt cx="1008000" cy="3312360"/>
                </a:xfrm>
              </p:grpSpPr>
              <p:sp>
                <p:nvSpPr>
                  <p:cNvPr id="60" name=""/>
                  <p:cNvSpPr/>
                  <p:nvPr/>
                </p:nvSpPr>
                <p:spPr>
                  <a:xfrm rot="16200000">
                    <a:off x="1817640" y="3778920"/>
                    <a:ext cx="1008000" cy="10080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 rot="16200000">
                    <a:off x="1817640" y="1474560"/>
                    <a:ext cx="1008000" cy="10080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62" name=""/>
          <p:cNvSpPr/>
          <p:nvPr/>
        </p:nvSpPr>
        <p:spPr>
          <a:xfrm>
            <a:off x="2086920" y="5445000"/>
            <a:ext cx="5055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eometrical Coverage 20’’ =  40% &amp; n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12’’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= 2 n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20’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87280" y="981000"/>
            <a:ext cx="2325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37440" y="5238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537372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7800" y="536724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76720" y="981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9360" y="5223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43280" y="1125360"/>
            <a:ext cx="4105440" cy="4104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538960" y="2025720"/>
            <a:ext cx="2317680" cy="2317680"/>
            <a:chOff x="5538960" y="2025720"/>
            <a:chExt cx="2317680" cy="2317680"/>
          </a:xfrm>
        </p:grpSpPr>
        <p:sp>
          <p:nvSpPr>
            <p:cNvPr id="71" name=""/>
            <p:cNvSpPr/>
            <p:nvPr/>
          </p:nvSpPr>
          <p:spPr>
            <a:xfrm rot="16200000">
              <a:off x="6194520" y="2678760"/>
              <a:ext cx="1007640" cy="100800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538960" y="2025720"/>
              <a:ext cx="2317680" cy="2317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4710240" y="1197000"/>
            <a:ext cx="1655640" cy="1655640"/>
            <a:chOff x="4710240" y="1197000"/>
            <a:chExt cx="1655640" cy="1655640"/>
          </a:xfrm>
        </p:grpSpPr>
        <p:sp>
          <p:nvSpPr>
            <p:cNvPr id="74" name=""/>
            <p:cNvSpPr/>
            <p:nvPr/>
          </p:nvSpPr>
          <p:spPr>
            <a:xfrm>
              <a:off x="4710240" y="1197000"/>
              <a:ext cx="1655640" cy="165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6200000">
              <a:off x="5033880" y="1520280"/>
              <a:ext cx="1007640" cy="100764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7026120" y="1197000"/>
            <a:ext cx="1655640" cy="1655640"/>
            <a:chOff x="7026120" y="1197000"/>
            <a:chExt cx="1655640" cy="1655640"/>
          </a:xfrm>
        </p:grpSpPr>
        <p:sp>
          <p:nvSpPr>
            <p:cNvPr id="77" name=""/>
            <p:cNvSpPr/>
            <p:nvPr/>
          </p:nvSpPr>
          <p:spPr>
            <a:xfrm>
              <a:off x="7026120" y="1197000"/>
              <a:ext cx="1655640" cy="165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6200000">
              <a:off x="7349760" y="1521000"/>
              <a:ext cx="1008000" cy="100800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4710240" y="3502080"/>
            <a:ext cx="1655640" cy="1655640"/>
            <a:chOff x="4710240" y="3502080"/>
            <a:chExt cx="1655640" cy="1655640"/>
          </a:xfrm>
        </p:grpSpPr>
        <p:sp>
          <p:nvSpPr>
            <p:cNvPr id="80" name=""/>
            <p:cNvSpPr/>
            <p:nvPr/>
          </p:nvSpPr>
          <p:spPr>
            <a:xfrm>
              <a:off x="4710240" y="3502080"/>
              <a:ext cx="1655640" cy="165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6200000">
              <a:off x="5033880" y="3825360"/>
              <a:ext cx="1007640" cy="100764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7026120" y="3502080"/>
            <a:ext cx="1655640" cy="1655640"/>
            <a:chOff x="7026120" y="3502080"/>
            <a:chExt cx="1655640" cy="1655640"/>
          </a:xfrm>
        </p:grpSpPr>
        <p:sp>
          <p:nvSpPr>
            <p:cNvPr id="83" name=""/>
            <p:cNvSpPr/>
            <p:nvPr/>
          </p:nvSpPr>
          <p:spPr>
            <a:xfrm>
              <a:off x="7026120" y="3502080"/>
              <a:ext cx="1655640" cy="165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7349760" y="3826080"/>
              <a:ext cx="1008000" cy="100800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A61B6F-6DA5-4E3D-92E1-92107696860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1428840" y="974880"/>
            <a:ext cx="6490440" cy="4469400"/>
            <a:chOff x="1428840" y="974880"/>
            <a:chExt cx="6490440" cy="4469400"/>
          </a:xfrm>
        </p:grpSpPr>
        <p:grpSp>
          <p:nvGrpSpPr>
            <p:cNvPr id="86" name=""/>
            <p:cNvGrpSpPr/>
            <p:nvPr/>
          </p:nvGrpSpPr>
          <p:grpSpPr>
            <a:xfrm>
              <a:off x="1444680" y="974880"/>
              <a:ext cx="3579840" cy="1627560"/>
              <a:chOff x="1444680" y="974880"/>
              <a:chExt cx="3579840" cy="162756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3369600" y="974880"/>
                <a:ext cx="1654920" cy="1627560"/>
                <a:chOff x="3369600" y="974880"/>
                <a:chExt cx="1654920" cy="1627560"/>
              </a:xfrm>
            </p:grpSpPr>
            <p:grpSp>
              <p:nvGrpSpPr>
                <p:cNvPr id="88" name=""/>
                <p:cNvGrpSpPr/>
                <p:nvPr/>
              </p:nvGrpSpPr>
              <p:grpSpPr>
                <a:xfrm>
                  <a:off x="3714840" y="1315080"/>
                  <a:ext cx="965520" cy="952560"/>
                  <a:chOff x="3714840" y="1315080"/>
                  <a:chExt cx="965520" cy="95256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 rot="16200000">
                    <a:off x="3990600" y="15807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3714840" y="131508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" name=""/>
                <p:cNvGrpSpPr/>
                <p:nvPr/>
              </p:nvGrpSpPr>
              <p:grpSpPr>
                <a:xfrm>
                  <a:off x="3369600" y="974880"/>
                  <a:ext cx="689760" cy="680400"/>
                  <a:chOff x="3369600" y="974880"/>
                  <a:chExt cx="689760" cy="68040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>
                    <a:off x="3369600" y="974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 rot="16200000">
                    <a:off x="3507120" y="110484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" name=""/>
                <p:cNvGrpSpPr/>
                <p:nvPr/>
              </p:nvGrpSpPr>
              <p:grpSpPr>
                <a:xfrm>
                  <a:off x="4334760" y="974880"/>
                  <a:ext cx="689760" cy="680400"/>
                  <a:chOff x="4334760" y="974880"/>
                  <a:chExt cx="689760" cy="680400"/>
                </a:xfrm>
              </p:grpSpPr>
              <p:sp>
                <p:nvSpPr>
                  <p:cNvPr id="95" name=""/>
                  <p:cNvSpPr/>
                  <p:nvPr/>
                </p:nvSpPr>
                <p:spPr>
                  <a:xfrm>
                    <a:off x="4334760" y="974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 rot="16200000">
                    <a:off x="4471920" y="110448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"/>
                <p:cNvGrpSpPr/>
                <p:nvPr/>
              </p:nvGrpSpPr>
              <p:grpSpPr>
                <a:xfrm>
                  <a:off x="3369600" y="1922040"/>
                  <a:ext cx="689760" cy="680400"/>
                  <a:chOff x="3369600" y="1922040"/>
                  <a:chExt cx="689760" cy="68040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>
                    <a:off x="3369600" y="19220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 rot="16200000">
                    <a:off x="3507120" y="20520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" name=""/>
                <p:cNvGrpSpPr/>
                <p:nvPr/>
              </p:nvGrpSpPr>
              <p:grpSpPr>
                <a:xfrm>
                  <a:off x="4334760" y="1922040"/>
                  <a:ext cx="689760" cy="680400"/>
                  <a:chOff x="4334760" y="1922040"/>
                  <a:chExt cx="689760" cy="680400"/>
                </a:xfrm>
              </p:grpSpPr>
              <p:sp>
                <p:nvSpPr>
                  <p:cNvPr id="101" name=""/>
                  <p:cNvSpPr/>
                  <p:nvPr/>
                </p:nvSpPr>
                <p:spPr>
                  <a:xfrm>
                    <a:off x="4334760" y="19220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 rot="16200000">
                    <a:off x="4471920" y="205164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3" name=""/>
              <p:cNvGrpSpPr/>
              <p:nvPr/>
            </p:nvGrpSpPr>
            <p:grpSpPr>
              <a:xfrm>
                <a:off x="2406960" y="974880"/>
                <a:ext cx="1654920" cy="1627560"/>
                <a:chOff x="2406960" y="974880"/>
                <a:chExt cx="1654920" cy="1627560"/>
              </a:xfrm>
            </p:grpSpPr>
            <p:grpSp>
              <p:nvGrpSpPr>
                <p:cNvPr id="104" name=""/>
                <p:cNvGrpSpPr/>
                <p:nvPr/>
              </p:nvGrpSpPr>
              <p:grpSpPr>
                <a:xfrm>
                  <a:off x="2752200" y="1315080"/>
                  <a:ext cx="965520" cy="952560"/>
                  <a:chOff x="2752200" y="1315080"/>
                  <a:chExt cx="965520" cy="95256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16200000">
                    <a:off x="3027960" y="15807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2752200" y="131508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2406960" y="974880"/>
                  <a:ext cx="689760" cy="680400"/>
                  <a:chOff x="2406960" y="974880"/>
                  <a:chExt cx="689760" cy="6804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2406960" y="974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2544480" y="110484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3372120" y="974880"/>
                  <a:ext cx="689760" cy="680400"/>
                  <a:chOff x="3372120" y="974880"/>
                  <a:chExt cx="689760" cy="68040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>
                    <a:off x="3372120" y="974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16200000">
                    <a:off x="3509280" y="110448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"/>
                <p:cNvGrpSpPr/>
                <p:nvPr/>
              </p:nvGrpSpPr>
              <p:grpSpPr>
                <a:xfrm>
                  <a:off x="2406960" y="1922040"/>
                  <a:ext cx="689760" cy="680400"/>
                  <a:chOff x="2406960" y="1922040"/>
                  <a:chExt cx="689760" cy="68040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2406960" y="19220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rot="16200000">
                    <a:off x="2544480" y="20520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"/>
                <p:cNvGrpSpPr/>
                <p:nvPr/>
              </p:nvGrpSpPr>
              <p:grpSpPr>
                <a:xfrm>
                  <a:off x="3372120" y="1922040"/>
                  <a:ext cx="689760" cy="680400"/>
                  <a:chOff x="3372120" y="1922040"/>
                  <a:chExt cx="689760" cy="68040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>
                    <a:off x="3372120" y="19220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rot="16200000">
                    <a:off x="3509280" y="205164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9" name=""/>
              <p:cNvGrpSpPr/>
              <p:nvPr/>
            </p:nvGrpSpPr>
            <p:grpSpPr>
              <a:xfrm>
                <a:off x="1444680" y="974880"/>
                <a:ext cx="1654920" cy="1627560"/>
                <a:chOff x="1444680" y="974880"/>
                <a:chExt cx="1654920" cy="162756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1789920" y="1315080"/>
                  <a:ext cx="965520" cy="952560"/>
                  <a:chOff x="1789920" y="1315080"/>
                  <a:chExt cx="965520" cy="95256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 rot="16200000">
                    <a:off x="2065680" y="15807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1789920" y="131508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" name=""/>
                <p:cNvGrpSpPr/>
                <p:nvPr/>
              </p:nvGrpSpPr>
              <p:grpSpPr>
                <a:xfrm>
                  <a:off x="1444680" y="974880"/>
                  <a:ext cx="689760" cy="680400"/>
                  <a:chOff x="1444680" y="974880"/>
                  <a:chExt cx="689760" cy="680400"/>
                </a:xfrm>
              </p:grpSpPr>
              <p:sp>
                <p:nvSpPr>
                  <p:cNvPr id="124" name=""/>
                  <p:cNvSpPr/>
                  <p:nvPr/>
                </p:nvSpPr>
                <p:spPr>
                  <a:xfrm>
                    <a:off x="1444680" y="974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 rot="16200000">
                    <a:off x="1582200" y="110484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" name=""/>
                <p:cNvGrpSpPr/>
                <p:nvPr/>
              </p:nvGrpSpPr>
              <p:grpSpPr>
                <a:xfrm>
                  <a:off x="2409840" y="974880"/>
                  <a:ext cx="689760" cy="680400"/>
                  <a:chOff x="2409840" y="974880"/>
                  <a:chExt cx="689760" cy="680400"/>
                </a:xfrm>
              </p:grpSpPr>
              <p:sp>
                <p:nvSpPr>
                  <p:cNvPr id="127" name=""/>
                  <p:cNvSpPr/>
                  <p:nvPr/>
                </p:nvSpPr>
                <p:spPr>
                  <a:xfrm>
                    <a:off x="2409840" y="974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 rot="16200000">
                    <a:off x="2547000" y="110448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" name=""/>
                <p:cNvGrpSpPr/>
                <p:nvPr/>
              </p:nvGrpSpPr>
              <p:grpSpPr>
                <a:xfrm>
                  <a:off x="1444680" y="1922040"/>
                  <a:ext cx="689760" cy="680400"/>
                  <a:chOff x="1444680" y="1922040"/>
                  <a:chExt cx="689760" cy="68040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1444680" y="19220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 rot="16200000">
                    <a:off x="1582200" y="20520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2409840" y="1922040"/>
                  <a:ext cx="689760" cy="680400"/>
                  <a:chOff x="2409840" y="1922040"/>
                  <a:chExt cx="689760" cy="680400"/>
                </a:xfrm>
              </p:grpSpPr>
              <p:sp>
                <p:nvSpPr>
                  <p:cNvPr id="133" name=""/>
                  <p:cNvSpPr/>
                  <p:nvPr/>
                </p:nvSpPr>
                <p:spPr>
                  <a:xfrm>
                    <a:off x="2409840" y="19220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 rot="16200000">
                    <a:off x="2547000" y="205164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5" name=""/>
            <p:cNvGrpSpPr/>
            <p:nvPr/>
          </p:nvGrpSpPr>
          <p:grpSpPr>
            <a:xfrm>
              <a:off x="4340160" y="974880"/>
              <a:ext cx="3579120" cy="1627560"/>
              <a:chOff x="4340160" y="974880"/>
              <a:chExt cx="3579120" cy="1627560"/>
            </a:xfrm>
          </p:grpSpPr>
          <p:grpSp>
            <p:nvGrpSpPr>
              <p:cNvPr id="136" name=""/>
              <p:cNvGrpSpPr/>
              <p:nvPr/>
            </p:nvGrpSpPr>
            <p:grpSpPr>
              <a:xfrm>
                <a:off x="6264720" y="974880"/>
                <a:ext cx="1654560" cy="1627560"/>
                <a:chOff x="6264720" y="974880"/>
                <a:chExt cx="1654560" cy="1627560"/>
              </a:xfrm>
            </p:grpSpPr>
            <p:grpSp>
              <p:nvGrpSpPr>
                <p:cNvPr id="137" name=""/>
                <p:cNvGrpSpPr/>
                <p:nvPr/>
              </p:nvGrpSpPr>
              <p:grpSpPr>
                <a:xfrm>
                  <a:off x="6609960" y="1315080"/>
                  <a:ext cx="965520" cy="952560"/>
                  <a:chOff x="6609960" y="1315080"/>
                  <a:chExt cx="965520" cy="952560"/>
                </a:xfrm>
              </p:grpSpPr>
              <p:sp>
                <p:nvSpPr>
                  <p:cNvPr id="138" name=""/>
                  <p:cNvSpPr/>
                  <p:nvPr/>
                </p:nvSpPr>
                <p:spPr>
                  <a:xfrm rot="16200000">
                    <a:off x="6885720" y="15807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6609960" y="131508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"/>
                <p:cNvGrpSpPr/>
                <p:nvPr/>
              </p:nvGrpSpPr>
              <p:grpSpPr>
                <a:xfrm>
                  <a:off x="6264720" y="974880"/>
                  <a:ext cx="689760" cy="680400"/>
                  <a:chOff x="6264720" y="974880"/>
                  <a:chExt cx="689760" cy="68040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>
                    <a:off x="6264720" y="974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 rot="16200000">
                    <a:off x="6402240" y="110484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"/>
                <p:cNvGrpSpPr/>
                <p:nvPr/>
              </p:nvGrpSpPr>
              <p:grpSpPr>
                <a:xfrm>
                  <a:off x="7229520" y="974880"/>
                  <a:ext cx="689760" cy="680400"/>
                  <a:chOff x="7229520" y="974880"/>
                  <a:chExt cx="689760" cy="68040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229520" y="974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 rot="16200000">
                    <a:off x="7366680" y="110448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6264720" y="1922040"/>
                  <a:ext cx="689760" cy="680400"/>
                  <a:chOff x="6264720" y="1922040"/>
                  <a:chExt cx="689760" cy="68040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>
                    <a:off x="6264720" y="19220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rot="16200000">
                    <a:off x="6402240" y="20520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" name=""/>
                <p:cNvGrpSpPr/>
                <p:nvPr/>
              </p:nvGrpSpPr>
              <p:grpSpPr>
                <a:xfrm>
                  <a:off x="7229520" y="1922040"/>
                  <a:ext cx="689760" cy="680400"/>
                  <a:chOff x="7229520" y="1922040"/>
                  <a:chExt cx="689760" cy="68040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>
                    <a:off x="7229520" y="19220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rot="16200000">
                    <a:off x="7366680" y="205164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" name=""/>
              <p:cNvGrpSpPr/>
              <p:nvPr/>
            </p:nvGrpSpPr>
            <p:grpSpPr>
              <a:xfrm>
                <a:off x="5302440" y="974880"/>
                <a:ext cx="1654560" cy="1627560"/>
                <a:chOff x="5302440" y="974880"/>
                <a:chExt cx="1654560" cy="1627560"/>
              </a:xfrm>
            </p:grpSpPr>
            <p:grpSp>
              <p:nvGrpSpPr>
                <p:cNvPr id="153" name=""/>
                <p:cNvGrpSpPr/>
                <p:nvPr/>
              </p:nvGrpSpPr>
              <p:grpSpPr>
                <a:xfrm>
                  <a:off x="5647680" y="1315080"/>
                  <a:ext cx="965520" cy="952560"/>
                  <a:chOff x="5647680" y="1315080"/>
                  <a:chExt cx="965520" cy="95256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 rot="16200000">
                    <a:off x="5923440" y="15807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5647680" y="131508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5302440" y="974880"/>
                  <a:ext cx="689760" cy="680400"/>
                  <a:chOff x="5302440" y="974880"/>
                  <a:chExt cx="689760" cy="68040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>
                    <a:off x="5302440" y="974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rot="16200000">
                    <a:off x="5439960" y="110484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6267240" y="974880"/>
                  <a:ext cx="689760" cy="680400"/>
                  <a:chOff x="6267240" y="974880"/>
                  <a:chExt cx="689760" cy="68040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6267240" y="974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rot="16200000">
                    <a:off x="6404400" y="110448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5302440" y="1922040"/>
                  <a:ext cx="689760" cy="680400"/>
                  <a:chOff x="5302440" y="1922040"/>
                  <a:chExt cx="689760" cy="6804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5302440" y="19220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rot="16200000">
                    <a:off x="5439960" y="20520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6267240" y="1922040"/>
                  <a:ext cx="689760" cy="680400"/>
                  <a:chOff x="6267240" y="1922040"/>
                  <a:chExt cx="689760" cy="68040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>
                    <a:off x="6267240" y="19220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rot="16200000">
                    <a:off x="6404400" y="205164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8" name=""/>
              <p:cNvGrpSpPr/>
              <p:nvPr/>
            </p:nvGrpSpPr>
            <p:grpSpPr>
              <a:xfrm>
                <a:off x="4340160" y="974880"/>
                <a:ext cx="1654560" cy="1627560"/>
                <a:chOff x="4340160" y="974880"/>
                <a:chExt cx="1654560" cy="162756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4685400" y="1315080"/>
                  <a:ext cx="965520" cy="952560"/>
                  <a:chOff x="4685400" y="1315080"/>
                  <a:chExt cx="965520" cy="95256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 rot="16200000">
                    <a:off x="4961160" y="15807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4685400" y="131508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4340160" y="974880"/>
                  <a:ext cx="689760" cy="680400"/>
                  <a:chOff x="4340160" y="974880"/>
                  <a:chExt cx="689760" cy="68040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4340160" y="974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 rot="16200000">
                    <a:off x="4477680" y="110484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"/>
                <p:cNvGrpSpPr/>
                <p:nvPr/>
              </p:nvGrpSpPr>
              <p:grpSpPr>
                <a:xfrm>
                  <a:off x="5304960" y="974880"/>
                  <a:ext cx="689760" cy="680400"/>
                  <a:chOff x="5304960" y="974880"/>
                  <a:chExt cx="689760" cy="68040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5304960" y="974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 rot="16200000">
                    <a:off x="5442120" y="110448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4340160" y="1922040"/>
                  <a:ext cx="689760" cy="680400"/>
                  <a:chOff x="4340160" y="1922040"/>
                  <a:chExt cx="689760" cy="68040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4340160" y="19220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 rot="16200000">
                    <a:off x="4477680" y="20520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5304960" y="1922040"/>
                  <a:ext cx="689760" cy="680400"/>
                  <a:chOff x="5304960" y="1922040"/>
                  <a:chExt cx="689760" cy="68040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5304960" y="19220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 rot="16200000">
                    <a:off x="5442120" y="205164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84" name=""/>
            <p:cNvGrpSpPr/>
            <p:nvPr/>
          </p:nvGrpSpPr>
          <p:grpSpPr>
            <a:xfrm>
              <a:off x="1436760" y="1922400"/>
              <a:ext cx="3579120" cy="1627560"/>
              <a:chOff x="1436760" y="1922400"/>
              <a:chExt cx="3579120" cy="162756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3361320" y="1922400"/>
                <a:ext cx="1654560" cy="1627560"/>
                <a:chOff x="3361320" y="1922400"/>
                <a:chExt cx="1654560" cy="1627560"/>
              </a:xfrm>
            </p:grpSpPr>
            <p:grpSp>
              <p:nvGrpSpPr>
                <p:cNvPr id="186" name=""/>
                <p:cNvGrpSpPr/>
                <p:nvPr/>
              </p:nvGrpSpPr>
              <p:grpSpPr>
                <a:xfrm>
                  <a:off x="3706560" y="2262600"/>
                  <a:ext cx="965520" cy="952560"/>
                  <a:chOff x="3706560" y="2262600"/>
                  <a:chExt cx="965520" cy="95256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rot="16200000">
                    <a:off x="3982320" y="252828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3706560" y="226260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3361320" y="1922400"/>
                  <a:ext cx="689760" cy="680400"/>
                  <a:chOff x="3361320" y="1922400"/>
                  <a:chExt cx="689760" cy="68040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>
                    <a:off x="3361320" y="19224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rot="16200000">
                    <a:off x="3498840" y="20523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4326120" y="1922400"/>
                  <a:ext cx="689760" cy="680400"/>
                  <a:chOff x="4326120" y="1922400"/>
                  <a:chExt cx="689760" cy="68040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>
                    <a:off x="4326120" y="19224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rot="16200000">
                    <a:off x="4463280" y="205200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3361320" y="2869560"/>
                  <a:ext cx="689760" cy="680400"/>
                  <a:chOff x="3361320" y="2869560"/>
                  <a:chExt cx="689760" cy="68040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3361320" y="286956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rot="16200000">
                    <a:off x="3498840" y="299952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"/>
                <p:cNvGrpSpPr/>
                <p:nvPr/>
              </p:nvGrpSpPr>
              <p:grpSpPr>
                <a:xfrm>
                  <a:off x="4326120" y="2869560"/>
                  <a:ext cx="689760" cy="680400"/>
                  <a:chOff x="4326120" y="2869560"/>
                  <a:chExt cx="689760" cy="68040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>
                    <a:off x="4326120" y="286956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rot="16200000">
                    <a:off x="4463280" y="299916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1" name=""/>
              <p:cNvGrpSpPr/>
              <p:nvPr/>
            </p:nvGrpSpPr>
            <p:grpSpPr>
              <a:xfrm>
                <a:off x="2399040" y="1922400"/>
                <a:ext cx="1654560" cy="1627560"/>
                <a:chOff x="2399040" y="1922400"/>
                <a:chExt cx="1654560" cy="1627560"/>
              </a:xfrm>
            </p:grpSpPr>
            <p:grpSp>
              <p:nvGrpSpPr>
                <p:cNvPr id="202" name=""/>
                <p:cNvGrpSpPr/>
                <p:nvPr/>
              </p:nvGrpSpPr>
              <p:grpSpPr>
                <a:xfrm>
                  <a:off x="2744280" y="2262600"/>
                  <a:ext cx="965520" cy="952560"/>
                  <a:chOff x="2744280" y="2262600"/>
                  <a:chExt cx="965520" cy="95256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 rot="16200000">
                    <a:off x="3020040" y="252828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2744280" y="226260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" name=""/>
                <p:cNvGrpSpPr/>
                <p:nvPr/>
              </p:nvGrpSpPr>
              <p:grpSpPr>
                <a:xfrm>
                  <a:off x="2399040" y="1922400"/>
                  <a:ext cx="689760" cy="680400"/>
                  <a:chOff x="2399040" y="1922400"/>
                  <a:chExt cx="689760" cy="68040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>
                    <a:off x="2399040" y="19224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rot="16200000">
                    <a:off x="2536560" y="20523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" name=""/>
                <p:cNvGrpSpPr/>
                <p:nvPr/>
              </p:nvGrpSpPr>
              <p:grpSpPr>
                <a:xfrm>
                  <a:off x="3363840" y="1922400"/>
                  <a:ext cx="689760" cy="680400"/>
                  <a:chOff x="3363840" y="1922400"/>
                  <a:chExt cx="689760" cy="68040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>
                    <a:off x="3363840" y="19224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 rot="16200000">
                    <a:off x="3501000" y="205200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"/>
                <p:cNvGrpSpPr/>
                <p:nvPr/>
              </p:nvGrpSpPr>
              <p:grpSpPr>
                <a:xfrm>
                  <a:off x="2399040" y="2869560"/>
                  <a:ext cx="689760" cy="680400"/>
                  <a:chOff x="2399040" y="2869560"/>
                  <a:chExt cx="689760" cy="680400"/>
                </a:xfrm>
              </p:grpSpPr>
              <p:sp>
                <p:nvSpPr>
                  <p:cNvPr id="212" name=""/>
                  <p:cNvSpPr/>
                  <p:nvPr/>
                </p:nvSpPr>
                <p:spPr>
                  <a:xfrm>
                    <a:off x="2399040" y="286956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 rot="16200000">
                    <a:off x="2536560" y="299952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" name=""/>
                <p:cNvGrpSpPr/>
                <p:nvPr/>
              </p:nvGrpSpPr>
              <p:grpSpPr>
                <a:xfrm>
                  <a:off x="3363840" y="2869560"/>
                  <a:ext cx="689760" cy="680400"/>
                  <a:chOff x="3363840" y="2869560"/>
                  <a:chExt cx="689760" cy="68040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>
                    <a:off x="3363840" y="286956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 rot="16200000">
                    <a:off x="3501000" y="299916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7" name=""/>
              <p:cNvGrpSpPr/>
              <p:nvPr/>
            </p:nvGrpSpPr>
            <p:grpSpPr>
              <a:xfrm>
                <a:off x="1436760" y="1922400"/>
                <a:ext cx="1654560" cy="1627560"/>
                <a:chOff x="1436760" y="1922400"/>
                <a:chExt cx="1654560" cy="1627560"/>
              </a:xfrm>
            </p:grpSpPr>
            <p:grpSp>
              <p:nvGrpSpPr>
                <p:cNvPr id="218" name=""/>
                <p:cNvGrpSpPr/>
                <p:nvPr/>
              </p:nvGrpSpPr>
              <p:grpSpPr>
                <a:xfrm>
                  <a:off x="1782000" y="2262600"/>
                  <a:ext cx="965520" cy="952560"/>
                  <a:chOff x="1782000" y="2262600"/>
                  <a:chExt cx="965520" cy="95256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 rot="16200000">
                    <a:off x="2057760" y="252828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1782000" y="226260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1436760" y="1922400"/>
                  <a:ext cx="689760" cy="680400"/>
                  <a:chOff x="1436760" y="1922400"/>
                  <a:chExt cx="689760" cy="68040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1436760" y="19224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rot="16200000">
                    <a:off x="1574280" y="20523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2401560" y="1922400"/>
                  <a:ext cx="689760" cy="680400"/>
                  <a:chOff x="2401560" y="1922400"/>
                  <a:chExt cx="689760" cy="68040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>
                    <a:off x="2401560" y="19224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rot="16200000">
                    <a:off x="2538720" y="205200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"/>
                <p:cNvGrpSpPr/>
                <p:nvPr/>
              </p:nvGrpSpPr>
              <p:grpSpPr>
                <a:xfrm>
                  <a:off x="1436760" y="2869560"/>
                  <a:ext cx="689760" cy="680400"/>
                  <a:chOff x="1436760" y="2869560"/>
                  <a:chExt cx="689760" cy="68040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>
                    <a:off x="1436760" y="286956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rot="16200000">
                    <a:off x="1574280" y="299952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2401560" y="2869560"/>
                  <a:ext cx="689760" cy="680400"/>
                  <a:chOff x="2401560" y="2869560"/>
                  <a:chExt cx="689760" cy="68040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>
                    <a:off x="2401560" y="286956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rot="16200000">
                    <a:off x="2538720" y="299916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3" name=""/>
            <p:cNvGrpSpPr/>
            <p:nvPr/>
          </p:nvGrpSpPr>
          <p:grpSpPr>
            <a:xfrm>
              <a:off x="4332240" y="1922400"/>
              <a:ext cx="3579840" cy="1627560"/>
              <a:chOff x="4332240" y="1922400"/>
              <a:chExt cx="3579840" cy="162756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257160" y="1922400"/>
                <a:ext cx="1654920" cy="1627560"/>
                <a:chOff x="6257160" y="1922400"/>
                <a:chExt cx="1654920" cy="1627560"/>
              </a:xfrm>
            </p:grpSpPr>
            <p:grpSp>
              <p:nvGrpSpPr>
                <p:cNvPr id="235" name=""/>
                <p:cNvGrpSpPr/>
                <p:nvPr/>
              </p:nvGrpSpPr>
              <p:grpSpPr>
                <a:xfrm>
                  <a:off x="6602400" y="2262600"/>
                  <a:ext cx="965520" cy="952560"/>
                  <a:chOff x="6602400" y="2262600"/>
                  <a:chExt cx="965520" cy="95256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 rot="16200000">
                    <a:off x="6878160" y="252828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6602400" y="226260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6257160" y="1922400"/>
                  <a:ext cx="689760" cy="680400"/>
                  <a:chOff x="6257160" y="1922400"/>
                  <a:chExt cx="689760" cy="68040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>
                    <a:off x="6257160" y="19224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rot="16200000">
                    <a:off x="6394680" y="20523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7222320" y="1922400"/>
                  <a:ext cx="689760" cy="680400"/>
                  <a:chOff x="7222320" y="1922400"/>
                  <a:chExt cx="689760" cy="68040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>
                    <a:off x="7222320" y="19224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rot="16200000">
                    <a:off x="7359480" y="205200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"/>
                <p:cNvGrpSpPr/>
                <p:nvPr/>
              </p:nvGrpSpPr>
              <p:grpSpPr>
                <a:xfrm>
                  <a:off x="6257160" y="2869560"/>
                  <a:ext cx="689760" cy="680400"/>
                  <a:chOff x="6257160" y="2869560"/>
                  <a:chExt cx="689760" cy="68040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>
                    <a:off x="6257160" y="286956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rot="16200000">
                    <a:off x="6394680" y="299952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7222320" y="2869560"/>
                  <a:ext cx="689760" cy="680400"/>
                  <a:chOff x="7222320" y="2869560"/>
                  <a:chExt cx="689760" cy="68040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>
                    <a:off x="7222320" y="286956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rot="16200000">
                    <a:off x="7359480" y="299916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0" name=""/>
              <p:cNvGrpSpPr/>
              <p:nvPr/>
            </p:nvGrpSpPr>
            <p:grpSpPr>
              <a:xfrm>
                <a:off x="5294520" y="1922400"/>
                <a:ext cx="1654920" cy="1627560"/>
                <a:chOff x="5294520" y="1922400"/>
                <a:chExt cx="1654920" cy="1627560"/>
              </a:xfrm>
            </p:grpSpPr>
            <p:grpSp>
              <p:nvGrpSpPr>
                <p:cNvPr id="251" name=""/>
                <p:cNvGrpSpPr/>
                <p:nvPr/>
              </p:nvGrpSpPr>
              <p:grpSpPr>
                <a:xfrm>
                  <a:off x="5639760" y="2262600"/>
                  <a:ext cx="965520" cy="952560"/>
                  <a:chOff x="5639760" y="2262600"/>
                  <a:chExt cx="965520" cy="95256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 rot="16200000">
                    <a:off x="5915520" y="252828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5639760" y="226260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"/>
                <p:cNvGrpSpPr/>
                <p:nvPr/>
              </p:nvGrpSpPr>
              <p:grpSpPr>
                <a:xfrm>
                  <a:off x="5294520" y="1922400"/>
                  <a:ext cx="689760" cy="680400"/>
                  <a:chOff x="5294520" y="1922400"/>
                  <a:chExt cx="689760" cy="68040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5294520" y="19224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 rot="16200000">
                    <a:off x="5432040" y="20523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6259680" y="1922400"/>
                  <a:ext cx="689760" cy="680400"/>
                  <a:chOff x="6259680" y="1922400"/>
                  <a:chExt cx="689760" cy="68040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>
                    <a:off x="6259680" y="19224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 rot="16200000">
                    <a:off x="6396840" y="205200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0" name=""/>
                <p:cNvGrpSpPr/>
                <p:nvPr/>
              </p:nvGrpSpPr>
              <p:grpSpPr>
                <a:xfrm>
                  <a:off x="5294520" y="2869560"/>
                  <a:ext cx="689760" cy="680400"/>
                  <a:chOff x="5294520" y="2869560"/>
                  <a:chExt cx="689760" cy="6804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5294520" y="286956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 rot="16200000">
                    <a:off x="5432040" y="299952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3" name=""/>
                <p:cNvGrpSpPr/>
                <p:nvPr/>
              </p:nvGrpSpPr>
              <p:grpSpPr>
                <a:xfrm>
                  <a:off x="6259680" y="2869560"/>
                  <a:ext cx="689760" cy="680400"/>
                  <a:chOff x="6259680" y="2869560"/>
                  <a:chExt cx="689760" cy="68040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6259680" y="286956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 rot="16200000">
                    <a:off x="6396840" y="299916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6" name=""/>
              <p:cNvGrpSpPr/>
              <p:nvPr/>
            </p:nvGrpSpPr>
            <p:grpSpPr>
              <a:xfrm>
                <a:off x="4332240" y="1922400"/>
                <a:ext cx="1654920" cy="1627560"/>
                <a:chOff x="4332240" y="1922400"/>
                <a:chExt cx="1654920" cy="162756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4677480" y="2262600"/>
                  <a:ext cx="965520" cy="952560"/>
                  <a:chOff x="4677480" y="2262600"/>
                  <a:chExt cx="965520" cy="95256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 rot="16200000">
                    <a:off x="4953240" y="252828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4677480" y="226260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0" name=""/>
                <p:cNvGrpSpPr/>
                <p:nvPr/>
              </p:nvGrpSpPr>
              <p:grpSpPr>
                <a:xfrm>
                  <a:off x="4332240" y="1922400"/>
                  <a:ext cx="689760" cy="680400"/>
                  <a:chOff x="4332240" y="1922400"/>
                  <a:chExt cx="689760" cy="68040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>
                    <a:off x="4332240" y="19224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rot="16200000">
                    <a:off x="4469760" y="20523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3" name=""/>
                <p:cNvGrpSpPr/>
                <p:nvPr/>
              </p:nvGrpSpPr>
              <p:grpSpPr>
                <a:xfrm>
                  <a:off x="5297400" y="1922400"/>
                  <a:ext cx="689760" cy="680400"/>
                  <a:chOff x="5297400" y="1922400"/>
                  <a:chExt cx="689760" cy="68040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>
                    <a:off x="5297400" y="19224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rot="16200000">
                    <a:off x="5434560" y="205200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6" name=""/>
                <p:cNvGrpSpPr/>
                <p:nvPr/>
              </p:nvGrpSpPr>
              <p:grpSpPr>
                <a:xfrm>
                  <a:off x="4332240" y="2869560"/>
                  <a:ext cx="689760" cy="680400"/>
                  <a:chOff x="4332240" y="2869560"/>
                  <a:chExt cx="689760" cy="68040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4332240" y="286956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 rot="16200000">
                    <a:off x="4469760" y="299952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5297400" y="2869560"/>
                  <a:ext cx="689760" cy="680400"/>
                  <a:chOff x="5297400" y="2869560"/>
                  <a:chExt cx="689760" cy="68040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>
                    <a:off x="5297400" y="286956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 rot="16200000">
                    <a:off x="5434560" y="299916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82" name=""/>
            <p:cNvGrpSpPr/>
            <p:nvPr/>
          </p:nvGrpSpPr>
          <p:grpSpPr>
            <a:xfrm>
              <a:off x="1436760" y="2868840"/>
              <a:ext cx="3579120" cy="1627560"/>
              <a:chOff x="1436760" y="2868840"/>
              <a:chExt cx="3579120" cy="1627560"/>
            </a:xfrm>
          </p:grpSpPr>
          <p:grpSp>
            <p:nvGrpSpPr>
              <p:cNvPr id="283" name=""/>
              <p:cNvGrpSpPr/>
              <p:nvPr/>
            </p:nvGrpSpPr>
            <p:grpSpPr>
              <a:xfrm>
                <a:off x="3361320" y="2868840"/>
                <a:ext cx="1654560" cy="1627560"/>
                <a:chOff x="3361320" y="2868840"/>
                <a:chExt cx="1654560" cy="1627560"/>
              </a:xfrm>
            </p:grpSpPr>
            <p:grpSp>
              <p:nvGrpSpPr>
                <p:cNvPr id="284" name=""/>
                <p:cNvGrpSpPr/>
                <p:nvPr/>
              </p:nvGrpSpPr>
              <p:grpSpPr>
                <a:xfrm>
                  <a:off x="3706560" y="3209040"/>
                  <a:ext cx="965520" cy="952560"/>
                  <a:chOff x="3706560" y="3209040"/>
                  <a:chExt cx="965520" cy="95256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 rot="16200000">
                    <a:off x="3982320" y="347472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3706560" y="320904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3361320" y="2868840"/>
                  <a:ext cx="689760" cy="680400"/>
                  <a:chOff x="3361320" y="2868840"/>
                  <a:chExt cx="689760" cy="68040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3361320" y="28688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rot="16200000">
                    <a:off x="3498840" y="29988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0" name=""/>
                <p:cNvGrpSpPr/>
                <p:nvPr/>
              </p:nvGrpSpPr>
              <p:grpSpPr>
                <a:xfrm>
                  <a:off x="4326120" y="2868840"/>
                  <a:ext cx="689760" cy="680400"/>
                  <a:chOff x="4326120" y="2868840"/>
                  <a:chExt cx="689760" cy="68040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26120" y="28688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rot="16200000">
                    <a:off x="4463280" y="299844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"/>
                <p:cNvGrpSpPr/>
                <p:nvPr/>
              </p:nvGrpSpPr>
              <p:grpSpPr>
                <a:xfrm>
                  <a:off x="3361320" y="3816000"/>
                  <a:ext cx="689760" cy="680400"/>
                  <a:chOff x="3361320" y="3816000"/>
                  <a:chExt cx="689760" cy="680400"/>
                </a:xfrm>
              </p:grpSpPr>
              <p:sp>
                <p:nvSpPr>
                  <p:cNvPr id="294" name=""/>
                  <p:cNvSpPr/>
                  <p:nvPr/>
                </p:nvSpPr>
                <p:spPr>
                  <a:xfrm>
                    <a:off x="3361320" y="38160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rot="16200000">
                    <a:off x="3498840" y="39459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" name=""/>
                <p:cNvGrpSpPr/>
                <p:nvPr/>
              </p:nvGrpSpPr>
              <p:grpSpPr>
                <a:xfrm>
                  <a:off x="4326120" y="3816000"/>
                  <a:ext cx="689760" cy="680400"/>
                  <a:chOff x="4326120" y="3816000"/>
                  <a:chExt cx="689760" cy="68040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>
                    <a:off x="4326120" y="38160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rot="16200000">
                    <a:off x="4463280" y="394560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9" name=""/>
              <p:cNvGrpSpPr/>
              <p:nvPr/>
            </p:nvGrpSpPr>
            <p:grpSpPr>
              <a:xfrm>
                <a:off x="2399040" y="2868840"/>
                <a:ext cx="1654560" cy="1627560"/>
                <a:chOff x="2399040" y="2868840"/>
                <a:chExt cx="1654560" cy="1627560"/>
              </a:xfrm>
            </p:grpSpPr>
            <p:grpSp>
              <p:nvGrpSpPr>
                <p:cNvPr id="300" name=""/>
                <p:cNvGrpSpPr/>
                <p:nvPr/>
              </p:nvGrpSpPr>
              <p:grpSpPr>
                <a:xfrm>
                  <a:off x="2744280" y="3209040"/>
                  <a:ext cx="965520" cy="952560"/>
                  <a:chOff x="2744280" y="3209040"/>
                  <a:chExt cx="965520" cy="952560"/>
                </a:xfrm>
              </p:grpSpPr>
              <p:sp>
                <p:nvSpPr>
                  <p:cNvPr id="301" name=""/>
                  <p:cNvSpPr/>
                  <p:nvPr/>
                </p:nvSpPr>
                <p:spPr>
                  <a:xfrm rot="16200000">
                    <a:off x="3020040" y="347472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2744280" y="320904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3" name=""/>
                <p:cNvGrpSpPr/>
                <p:nvPr/>
              </p:nvGrpSpPr>
              <p:grpSpPr>
                <a:xfrm>
                  <a:off x="2399040" y="2868840"/>
                  <a:ext cx="689760" cy="680400"/>
                  <a:chOff x="2399040" y="2868840"/>
                  <a:chExt cx="689760" cy="68040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>
                    <a:off x="2399040" y="28688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rot="16200000">
                    <a:off x="2536560" y="29988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3363840" y="2868840"/>
                  <a:ext cx="689760" cy="680400"/>
                  <a:chOff x="3363840" y="2868840"/>
                  <a:chExt cx="689760" cy="68040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>
                    <a:off x="3363840" y="28688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rot="16200000">
                    <a:off x="3501000" y="299844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9" name=""/>
                <p:cNvGrpSpPr/>
                <p:nvPr/>
              </p:nvGrpSpPr>
              <p:grpSpPr>
                <a:xfrm>
                  <a:off x="2399040" y="3816000"/>
                  <a:ext cx="689760" cy="680400"/>
                  <a:chOff x="2399040" y="3816000"/>
                  <a:chExt cx="689760" cy="68040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2399040" y="38160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 rot="16200000">
                    <a:off x="2536560" y="39459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2" name=""/>
                <p:cNvGrpSpPr/>
                <p:nvPr/>
              </p:nvGrpSpPr>
              <p:grpSpPr>
                <a:xfrm>
                  <a:off x="3363840" y="3816000"/>
                  <a:ext cx="689760" cy="680400"/>
                  <a:chOff x="3363840" y="3816000"/>
                  <a:chExt cx="689760" cy="680400"/>
                </a:xfrm>
              </p:grpSpPr>
              <p:sp>
                <p:nvSpPr>
                  <p:cNvPr id="313" name=""/>
                  <p:cNvSpPr/>
                  <p:nvPr/>
                </p:nvSpPr>
                <p:spPr>
                  <a:xfrm>
                    <a:off x="3363840" y="38160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 rot="16200000">
                    <a:off x="3501000" y="394560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5" name=""/>
              <p:cNvGrpSpPr/>
              <p:nvPr/>
            </p:nvGrpSpPr>
            <p:grpSpPr>
              <a:xfrm>
                <a:off x="1436760" y="2868840"/>
                <a:ext cx="1654560" cy="1627560"/>
                <a:chOff x="1436760" y="2868840"/>
                <a:chExt cx="1654560" cy="1627560"/>
              </a:xfrm>
            </p:grpSpPr>
            <p:grpSp>
              <p:nvGrpSpPr>
                <p:cNvPr id="316" name=""/>
                <p:cNvGrpSpPr/>
                <p:nvPr/>
              </p:nvGrpSpPr>
              <p:grpSpPr>
                <a:xfrm>
                  <a:off x="1782000" y="3209040"/>
                  <a:ext cx="965520" cy="952560"/>
                  <a:chOff x="1782000" y="3209040"/>
                  <a:chExt cx="965520" cy="95256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 rot="16200000">
                    <a:off x="2057760" y="347472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1782000" y="320904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9" name=""/>
                <p:cNvGrpSpPr/>
                <p:nvPr/>
              </p:nvGrpSpPr>
              <p:grpSpPr>
                <a:xfrm>
                  <a:off x="1436760" y="2868840"/>
                  <a:ext cx="689760" cy="680400"/>
                  <a:chOff x="1436760" y="2868840"/>
                  <a:chExt cx="689760" cy="680400"/>
                </a:xfrm>
              </p:grpSpPr>
              <p:sp>
                <p:nvSpPr>
                  <p:cNvPr id="320" name=""/>
                  <p:cNvSpPr/>
                  <p:nvPr/>
                </p:nvSpPr>
                <p:spPr>
                  <a:xfrm>
                    <a:off x="1436760" y="28688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 rot="16200000">
                    <a:off x="1574280" y="29988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2" name=""/>
                <p:cNvGrpSpPr/>
                <p:nvPr/>
              </p:nvGrpSpPr>
              <p:grpSpPr>
                <a:xfrm>
                  <a:off x="2401560" y="2868840"/>
                  <a:ext cx="689760" cy="680400"/>
                  <a:chOff x="2401560" y="2868840"/>
                  <a:chExt cx="689760" cy="680400"/>
                </a:xfrm>
              </p:grpSpPr>
              <p:sp>
                <p:nvSpPr>
                  <p:cNvPr id="323" name=""/>
                  <p:cNvSpPr/>
                  <p:nvPr/>
                </p:nvSpPr>
                <p:spPr>
                  <a:xfrm>
                    <a:off x="2401560" y="28688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 rot="16200000">
                    <a:off x="2538720" y="299844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5" name=""/>
                <p:cNvGrpSpPr/>
                <p:nvPr/>
              </p:nvGrpSpPr>
              <p:grpSpPr>
                <a:xfrm>
                  <a:off x="1436760" y="3816000"/>
                  <a:ext cx="689760" cy="680400"/>
                  <a:chOff x="1436760" y="3816000"/>
                  <a:chExt cx="689760" cy="68040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1436760" y="38160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 rot="16200000">
                    <a:off x="1574280" y="39459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8" name=""/>
                <p:cNvGrpSpPr/>
                <p:nvPr/>
              </p:nvGrpSpPr>
              <p:grpSpPr>
                <a:xfrm>
                  <a:off x="2401560" y="3816000"/>
                  <a:ext cx="689760" cy="680400"/>
                  <a:chOff x="2401560" y="3816000"/>
                  <a:chExt cx="689760" cy="680400"/>
                </a:xfrm>
              </p:grpSpPr>
              <p:sp>
                <p:nvSpPr>
                  <p:cNvPr id="329" name=""/>
                  <p:cNvSpPr/>
                  <p:nvPr/>
                </p:nvSpPr>
                <p:spPr>
                  <a:xfrm>
                    <a:off x="2401560" y="38160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rot="16200000">
                    <a:off x="2538720" y="394560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31" name=""/>
            <p:cNvGrpSpPr/>
            <p:nvPr/>
          </p:nvGrpSpPr>
          <p:grpSpPr>
            <a:xfrm>
              <a:off x="4332240" y="2868840"/>
              <a:ext cx="3579840" cy="1627560"/>
              <a:chOff x="4332240" y="2868840"/>
              <a:chExt cx="3579840" cy="1627560"/>
            </a:xfrm>
          </p:grpSpPr>
          <p:grpSp>
            <p:nvGrpSpPr>
              <p:cNvPr id="332" name=""/>
              <p:cNvGrpSpPr/>
              <p:nvPr/>
            </p:nvGrpSpPr>
            <p:grpSpPr>
              <a:xfrm>
                <a:off x="6257160" y="2868840"/>
                <a:ext cx="1654920" cy="1627560"/>
                <a:chOff x="6257160" y="2868840"/>
                <a:chExt cx="1654920" cy="1627560"/>
              </a:xfrm>
            </p:grpSpPr>
            <p:grpSp>
              <p:nvGrpSpPr>
                <p:cNvPr id="333" name=""/>
                <p:cNvGrpSpPr/>
                <p:nvPr/>
              </p:nvGrpSpPr>
              <p:grpSpPr>
                <a:xfrm>
                  <a:off x="6602400" y="3209040"/>
                  <a:ext cx="965520" cy="952560"/>
                  <a:chOff x="6602400" y="3209040"/>
                  <a:chExt cx="965520" cy="952560"/>
                </a:xfrm>
              </p:grpSpPr>
              <p:sp>
                <p:nvSpPr>
                  <p:cNvPr id="334" name=""/>
                  <p:cNvSpPr/>
                  <p:nvPr/>
                </p:nvSpPr>
                <p:spPr>
                  <a:xfrm rot="16200000">
                    <a:off x="6878160" y="347472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6602400" y="320904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" name=""/>
                <p:cNvGrpSpPr/>
                <p:nvPr/>
              </p:nvGrpSpPr>
              <p:grpSpPr>
                <a:xfrm>
                  <a:off x="6257160" y="2868840"/>
                  <a:ext cx="689760" cy="680400"/>
                  <a:chOff x="6257160" y="2868840"/>
                  <a:chExt cx="689760" cy="68040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6257160" y="28688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 rot="16200000">
                    <a:off x="6394680" y="29988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9" name=""/>
                <p:cNvGrpSpPr/>
                <p:nvPr/>
              </p:nvGrpSpPr>
              <p:grpSpPr>
                <a:xfrm>
                  <a:off x="7222320" y="2868840"/>
                  <a:ext cx="689760" cy="680400"/>
                  <a:chOff x="7222320" y="2868840"/>
                  <a:chExt cx="689760" cy="68040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>
                    <a:off x="7222320" y="28688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 rot="16200000">
                    <a:off x="7359480" y="299844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"/>
                <p:cNvGrpSpPr/>
                <p:nvPr/>
              </p:nvGrpSpPr>
              <p:grpSpPr>
                <a:xfrm>
                  <a:off x="6257160" y="3816000"/>
                  <a:ext cx="689760" cy="680400"/>
                  <a:chOff x="6257160" y="3816000"/>
                  <a:chExt cx="689760" cy="68040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>
                    <a:off x="6257160" y="38160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 rot="16200000">
                    <a:off x="6394680" y="39459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222320" y="3816000"/>
                  <a:ext cx="689760" cy="680400"/>
                  <a:chOff x="7222320" y="3816000"/>
                  <a:chExt cx="689760" cy="68040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222320" y="38160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rot="16200000">
                    <a:off x="7359480" y="394560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8" name=""/>
              <p:cNvGrpSpPr/>
              <p:nvPr/>
            </p:nvGrpSpPr>
            <p:grpSpPr>
              <a:xfrm>
                <a:off x="5294520" y="2868840"/>
                <a:ext cx="1654920" cy="1627560"/>
                <a:chOff x="5294520" y="2868840"/>
                <a:chExt cx="1654920" cy="1627560"/>
              </a:xfrm>
            </p:grpSpPr>
            <p:grpSp>
              <p:nvGrpSpPr>
                <p:cNvPr id="349" name=""/>
                <p:cNvGrpSpPr/>
                <p:nvPr/>
              </p:nvGrpSpPr>
              <p:grpSpPr>
                <a:xfrm>
                  <a:off x="5639760" y="3209040"/>
                  <a:ext cx="965520" cy="952560"/>
                  <a:chOff x="5639760" y="3209040"/>
                  <a:chExt cx="965520" cy="95256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 rot="16200000">
                    <a:off x="5915520" y="347472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5639760" y="320904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2" name=""/>
                <p:cNvGrpSpPr/>
                <p:nvPr/>
              </p:nvGrpSpPr>
              <p:grpSpPr>
                <a:xfrm>
                  <a:off x="5294520" y="2868840"/>
                  <a:ext cx="689760" cy="680400"/>
                  <a:chOff x="5294520" y="2868840"/>
                  <a:chExt cx="689760" cy="680400"/>
                </a:xfrm>
              </p:grpSpPr>
              <p:sp>
                <p:nvSpPr>
                  <p:cNvPr id="353" name=""/>
                  <p:cNvSpPr/>
                  <p:nvPr/>
                </p:nvSpPr>
                <p:spPr>
                  <a:xfrm>
                    <a:off x="5294520" y="28688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 rot="16200000">
                    <a:off x="5432040" y="29988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5" name=""/>
                <p:cNvGrpSpPr/>
                <p:nvPr/>
              </p:nvGrpSpPr>
              <p:grpSpPr>
                <a:xfrm>
                  <a:off x="6259680" y="2868840"/>
                  <a:ext cx="689760" cy="680400"/>
                  <a:chOff x="6259680" y="2868840"/>
                  <a:chExt cx="689760" cy="68040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>
                    <a:off x="6259680" y="28688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rot="16200000">
                    <a:off x="6396840" y="299844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8" name=""/>
                <p:cNvGrpSpPr/>
                <p:nvPr/>
              </p:nvGrpSpPr>
              <p:grpSpPr>
                <a:xfrm>
                  <a:off x="5294520" y="3816000"/>
                  <a:ext cx="689760" cy="680400"/>
                  <a:chOff x="5294520" y="3816000"/>
                  <a:chExt cx="689760" cy="68040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>
                    <a:off x="5294520" y="38160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 rot="16200000">
                    <a:off x="5432040" y="39459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"/>
                <p:cNvGrpSpPr/>
                <p:nvPr/>
              </p:nvGrpSpPr>
              <p:grpSpPr>
                <a:xfrm>
                  <a:off x="6259680" y="3816000"/>
                  <a:ext cx="689760" cy="680400"/>
                  <a:chOff x="6259680" y="3816000"/>
                  <a:chExt cx="689760" cy="68040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>
                    <a:off x="6259680" y="38160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rot="16200000">
                    <a:off x="6396840" y="394560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4" name=""/>
              <p:cNvGrpSpPr/>
              <p:nvPr/>
            </p:nvGrpSpPr>
            <p:grpSpPr>
              <a:xfrm>
                <a:off x="4332240" y="2868840"/>
                <a:ext cx="1654920" cy="1627560"/>
                <a:chOff x="4332240" y="2868840"/>
                <a:chExt cx="1654920" cy="1627560"/>
              </a:xfrm>
            </p:grpSpPr>
            <p:grpSp>
              <p:nvGrpSpPr>
                <p:cNvPr id="365" name=""/>
                <p:cNvGrpSpPr/>
                <p:nvPr/>
              </p:nvGrpSpPr>
              <p:grpSpPr>
                <a:xfrm>
                  <a:off x="4677480" y="3209040"/>
                  <a:ext cx="965520" cy="952560"/>
                  <a:chOff x="4677480" y="3209040"/>
                  <a:chExt cx="965520" cy="95256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 rot="16200000">
                    <a:off x="4953240" y="347472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4677480" y="320904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4332240" y="2868840"/>
                  <a:ext cx="689760" cy="680400"/>
                  <a:chOff x="4332240" y="2868840"/>
                  <a:chExt cx="689760" cy="68040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4332240" y="28688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 rot="16200000">
                    <a:off x="4469760" y="29988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5297400" y="2868840"/>
                  <a:ext cx="689760" cy="680400"/>
                  <a:chOff x="5297400" y="2868840"/>
                  <a:chExt cx="689760" cy="68040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5297400" y="286884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 rot="16200000">
                    <a:off x="5434560" y="299844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4332240" y="3816000"/>
                  <a:ext cx="689760" cy="680400"/>
                  <a:chOff x="4332240" y="3816000"/>
                  <a:chExt cx="689760" cy="68040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4332240" y="38160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 rot="16200000">
                    <a:off x="4469760" y="394596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7" name=""/>
                <p:cNvGrpSpPr/>
                <p:nvPr/>
              </p:nvGrpSpPr>
              <p:grpSpPr>
                <a:xfrm>
                  <a:off x="5297400" y="3816000"/>
                  <a:ext cx="689760" cy="680400"/>
                  <a:chOff x="5297400" y="3816000"/>
                  <a:chExt cx="689760" cy="680400"/>
                </a:xfrm>
              </p:grpSpPr>
              <p:sp>
                <p:nvSpPr>
                  <p:cNvPr id="378" name=""/>
                  <p:cNvSpPr/>
                  <p:nvPr/>
                </p:nvSpPr>
                <p:spPr>
                  <a:xfrm>
                    <a:off x="5297400" y="381600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 rot="16200000">
                    <a:off x="5434560" y="394560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80" name=""/>
            <p:cNvGrpSpPr/>
            <p:nvPr/>
          </p:nvGrpSpPr>
          <p:grpSpPr>
            <a:xfrm>
              <a:off x="1428840" y="3816720"/>
              <a:ext cx="3579840" cy="1627560"/>
              <a:chOff x="1428840" y="3816720"/>
              <a:chExt cx="3579840" cy="1627560"/>
            </a:xfrm>
          </p:grpSpPr>
          <p:grpSp>
            <p:nvGrpSpPr>
              <p:cNvPr id="381" name=""/>
              <p:cNvGrpSpPr/>
              <p:nvPr/>
            </p:nvGrpSpPr>
            <p:grpSpPr>
              <a:xfrm>
                <a:off x="3353760" y="3816720"/>
                <a:ext cx="1654920" cy="1627560"/>
                <a:chOff x="3353760" y="3816720"/>
                <a:chExt cx="1654920" cy="1627560"/>
              </a:xfrm>
            </p:grpSpPr>
            <p:grpSp>
              <p:nvGrpSpPr>
                <p:cNvPr id="382" name=""/>
                <p:cNvGrpSpPr/>
                <p:nvPr/>
              </p:nvGrpSpPr>
              <p:grpSpPr>
                <a:xfrm>
                  <a:off x="3699000" y="4156920"/>
                  <a:ext cx="965520" cy="952560"/>
                  <a:chOff x="3699000" y="4156920"/>
                  <a:chExt cx="965520" cy="95256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 rot="16200000">
                    <a:off x="3974760" y="44226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3699000" y="415692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"/>
                <p:cNvGrpSpPr/>
                <p:nvPr/>
              </p:nvGrpSpPr>
              <p:grpSpPr>
                <a:xfrm>
                  <a:off x="3353760" y="3816720"/>
                  <a:ext cx="689760" cy="680400"/>
                  <a:chOff x="3353760" y="3816720"/>
                  <a:chExt cx="689760" cy="68040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>
                    <a:off x="3353760" y="381672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rot="16200000">
                    <a:off x="3491280" y="394668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8" name=""/>
                <p:cNvGrpSpPr/>
                <p:nvPr/>
              </p:nvGrpSpPr>
              <p:grpSpPr>
                <a:xfrm>
                  <a:off x="4318920" y="3816720"/>
                  <a:ext cx="689760" cy="680400"/>
                  <a:chOff x="4318920" y="3816720"/>
                  <a:chExt cx="689760" cy="68040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>
                    <a:off x="4318920" y="381672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 rot="16200000">
                    <a:off x="4456080" y="394632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1" name=""/>
                <p:cNvGrpSpPr/>
                <p:nvPr/>
              </p:nvGrpSpPr>
              <p:grpSpPr>
                <a:xfrm>
                  <a:off x="3353760" y="4763880"/>
                  <a:ext cx="689760" cy="680400"/>
                  <a:chOff x="3353760" y="4763880"/>
                  <a:chExt cx="689760" cy="680400"/>
                </a:xfrm>
              </p:grpSpPr>
              <p:sp>
                <p:nvSpPr>
                  <p:cNvPr id="392" name=""/>
                  <p:cNvSpPr/>
                  <p:nvPr/>
                </p:nvSpPr>
                <p:spPr>
                  <a:xfrm>
                    <a:off x="3353760" y="4763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 rot="16200000">
                    <a:off x="3491280" y="489384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"/>
                <p:cNvGrpSpPr/>
                <p:nvPr/>
              </p:nvGrpSpPr>
              <p:grpSpPr>
                <a:xfrm>
                  <a:off x="4318920" y="4763880"/>
                  <a:ext cx="689760" cy="680400"/>
                  <a:chOff x="4318920" y="4763880"/>
                  <a:chExt cx="689760" cy="68040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>
                    <a:off x="4318920" y="4763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 rot="16200000">
                    <a:off x="4456080" y="489348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7" name=""/>
              <p:cNvGrpSpPr/>
              <p:nvPr/>
            </p:nvGrpSpPr>
            <p:grpSpPr>
              <a:xfrm>
                <a:off x="2391120" y="3816720"/>
                <a:ext cx="1654920" cy="1627560"/>
                <a:chOff x="2391120" y="3816720"/>
                <a:chExt cx="1654920" cy="1627560"/>
              </a:xfrm>
            </p:grpSpPr>
            <p:grpSp>
              <p:nvGrpSpPr>
                <p:cNvPr id="398" name=""/>
                <p:cNvGrpSpPr/>
                <p:nvPr/>
              </p:nvGrpSpPr>
              <p:grpSpPr>
                <a:xfrm>
                  <a:off x="2736360" y="4156920"/>
                  <a:ext cx="965520" cy="952560"/>
                  <a:chOff x="2736360" y="4156920"/>
                  <a:chExt cx="965520" cy="95256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 rot="16200000">
                    <a:off x="3012120" y="44226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2736360" y="415692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1" name=""/>
                <p:cNvGrpSpPr/>
                <p:nvPr/>
              </p:nvGrpSpPr>
              <p:grpSpPr>
                <a:xfrm>
                  <a:off x="2391120" y="3816720"/>
                  <a:ext cx="689760" cy="680400"/>
                  <a:chOff x="2391120" y="3816720"/>
                  <a:chExt cx="689760" cy="680400"/>
                </a:xfrm>
              </p:grpSpPr>
              <p:sp>
                <p:nvSpPr>
                  <p:cNvPr id="402" name=""/>
                  <p:cNvSpPr/>
                  <p:nvPr/>
                </p:nvSpPr>
                <p:spPr>
                  <a:xfrm>
                    <a:off x="2391120" y="381672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 rot="16200000">
                    <a:off x="2528640" y="394668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4" name=""/>
                <p:cNvGrpSpPr/>
                <p:nvPr/>
              </p:nvGrpSpPr>
              <p:grpSpPr>
                <a:xfrm>
                  <a:off x="3356280" y="3816720"/>
                  <a:ext cx="689760" cy="680400"/>
                  <a:chOff x="3356280" y="3816720"/>
                  <a:chExt cx="689760" cy="68040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>
                    <a:off x="3356280" y="381672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rot="16200000">
                    <a:off x="3493440" y="394632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7" name=""/>
                <p:cNvGrpSpPr/>
                <p:nvPr/>
              </p:nvGrpSpPr>
              <p:grpSpPr>
                <a:xfrm>
                  <a:off x="2391120" y="4763880"/>
                  <a:ext cx="689760" cy="680400"/>
                  <a:chOff x="2391120" y="4763880"/>
                  <a:chExt cx="689760" cy="68040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>
                    <a:off x="2391120" y="4763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rot="16200000">
                    <a:off x="2528640" y="489384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" name=""/>
                <p:cNvGrpSpPr/>
                <p:nvPr/>
              </p:nvGrpSpPr>
              <p:grpSpPr>
                <a:xfrm>
                  <a:off x="3356280" y="4763880"/>
                  <a:ext cx="689760" cy="680400"/>
                  <a:chOff x="3356280" y="4763880"/>
                  <a:chExt cx="689760" cy="68040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>
                    <a:off x="3356280" y="4763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rot="16200000">
                    <a:off x="3493440" y="489348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3" name=""/>
              <p:cNvGrpSpPr/>
              <p:nvPr/>
            </p:nvGrpSpPr>
            <p:grpSpPr>
              <a:xfrm>
                <a:off x="1428840" y="3816720"/>
                <a:ext cx="1654920" cy="1627560"/>
                <a:chOff x="1428840" y="3816720"/>
                <a:chExt cx="1654920" cy="1627560"/>
              </a:xfrm>
            </p:grpSpPr>
            <p:grpSp>
              <p:nvGrpSpPr>
                <p:cNvPr id="414" name=""/>
                <p:cNvGrpSpPr/>
                <p:nvPr/>
              </p:nvGrpSpPr>
              <p:grpSpPr>
                <a:xfrm>
                  <a:off x="1774080" y="4156920"/>
                  <a:ext cx="965520" cy="952560"/>
                  <a:chOff x="1774080" y="4156920"/>
                  <a:chExt cx="965520" cy="95256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 rot="16200000">
                    <a:off x="2049840" y="44226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1774080" y="415692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7" name=""/>
                <p:cNvGrpSpPr/>
                <p:nvPr/>
              </p:nvGrpSpPr>
              <p:grpSpPr>
                <a:xfrm>
                  <a:off x="1428840" y="3816720"/>
                  <a:ext cx="689760" cy="680400"/>
                  <a:chOff x="1428840" y="3816720"/>
                  <a:chExt cx="689760" cy="68040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>
                    <a:off x="1428840" y="381672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rot="16200000">
                    <a:off x="1566360" y="394668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0" name=""/>
                <p:cNvGrpSpPr/>
                <p:nvPr/>
              </p:nvGrpSpPr>
              <p:grpSpPr>
                <a:xfrm>
                  <a:off x="2394000" y="3816720"/>
                  <a:ext cx="689760" cy="680400"/>
                  <a:chOff x="2394000" y="3816720"/>
                  <a:chExt cx="689760" cy="68040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>
                    <a:off x="2394000" y="381672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rot="16200000">
                    <a:off x="2531160" y="394632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3" name=""/>
                <p:cNvGrpSpPr/>
                <p:nvPr/>
              </p:nvGrpSpPr>
              <p:grpSpPr>
                <a:xfrm>
                  <a:off x="1428840" y="4763880"/>
                  <a:ext cx="689760" cy="680400"/>
                  <a:chOff x="1428840" y="4763880"/>
                  <a:chExt cx="689760" cy="68040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>
                    <a:off x="1428840" y="4763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 rot="16200000">
                    <a:off x="1566360" y="489384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6" name=""/>
                <p:cNvGrpSpPr/>
                <p:nvPr/>
              </p:nvGrpSpPr>
              <p:grpSpPr>
                <a:xfrm>
                  <a:off x="2394000" y="4763880"/>
                  <a:ext cx="689760" cy="680400"/>
                  <a:chOff x="2394000" y="4763880"/>
                  <a:chExt cx="689760" cy="680400"/>
                </a:xfrm>
              </p:grpSpPr>
              <p:sp>
                <p:nvSpPr>
                  <p:cNvPr id="427" name=""/>
                  <p:cNvSpPr/>
                  <p:nvPr/>
                </p:nvSpPr>
                <p:spPr>
                  <a:xfrm>
                    <a:off x="2394000" y="4763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 rot="16200000">
                    <a:off x="2531160" y="489348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29" name=""/>
            <p:cNvGrpSpPr/>
            <p:nvPr/>
          </p:nvGrpSpPr>
          <p:grpSpPr>
            <a:xfrm>
              <a:off x="4324320" y="3816720"/>
              <a:ext cx="3579120" cy="1627560"/>
              <a:chOff x="4324320" y="3816720"/>
              <a:chExt cx="3579120" cy="1627560"/>
            </a:xfrm>
          </p:grpSpPr>
          <p:grpSp>
            <p:nvGrpSpPr>
              <p:cNvPr id="430" name=""/>
              <p:cNvGrpSpPr/>
              <p:nvPr/>
            </p:nvGrpSpPr>
            <p:grpSpPr>
              <a:xfrm>
                <a:off x="6248880" y="3816720"/>
                <a:ext cx="1654560" cy="1627560"/>
                <a:chOff x="6248880" y="3816720"/>
                <a:chExt cx="1654560" cy="1627560"/>
              </a:xfrm>
            </p:grpSpPr>
            <p:grpSp>
              <p:nvGrpSpPr>
                <p:cNvPr id="431" name=""/>
                <p:cNvGrpSpPr/>
                <p:nvPr/>
              </p:nvGrpSpPr>
              <p:grpSpPr>
                <a:xfrm>
                  <a:off x="6594120" y="4156920"/>
                  <a:ext cx="965520" cy="952560"/>
                  <a:chOff x="6594120" y="4156920"/>
                  <a:chExt cx="965520" cy="95256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 rot="16200000">
                    <a:off x="6869880" y="44226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6594120" y="415692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6248880" y="3816720"/>
                  <a:ext cx="689760" cy="680400"/>
                  <a:chOff x="6248880" y="3816720"/>
                  <a:chExt cx="689760" cy="68040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>
                    <a:off x="6248880" y="381672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rot="16200000">
                    <a:off x="6386400" y="394668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" name=""/>
                <p:cNvGrpSpPr/>
                <p:nvPr/>
              </p:nvGrpSpPr>
              <p:grpSpPr>
                <a:xfrm>
                  <a:off x="7213680" y="3816720"/>
                  <a:ext cx="689760" cy="680400"/>
                  <a:chOff x="7213680" y="3816720"/>
                  <a:chExt cx="689760" cy="68040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>
                    <a:off x="7213680" y="381672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rot="16200000">
                    <a:off x="7350840" y="394632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"/>
                <p:cNvGrpSpPr/>
                <p:nvPr/>
              </p:nvGrpSpPr>
              <p:grpSpPr>
                <a:xfrm>
                  <a:off x="6248880" y="4763880"/>
                  <a:ext cx="689760" cy="680400"/>
                  <a:chOff x="6248880" y="4763880"/>
                  <a:chExt cx="689760" cy="68040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>
                    <a:off x="6248880" y="4763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rot="16200000">
                    <a:off x="6386400" y="489384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7213680" y="4763880"/>
                  <a:ext cx="689760" cy="680400"/>
                  <a:chOff x="7213680" y="4763880"/>
                  <a:chExt cx="689760" cy="68040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>
                    <a:off x="7213680" y="4763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rot="16200000">
                    <a:off x="7350840" y="489348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6" name=""/>
              <p:cNvGrpSpPr/>
              <p:nvPr/>
            </p:nvGrpSpPr>
            <p:grpSpPr>
              <a:xfrm>
                <a:off x="5286600" y="3816720"/>
                <a:ext cx="1654560" cy="1627560"/>
                <a:chOff x="5286600" y="3816720"/>
                <a:chExt cx="1654560" cy="1627560"/>
              </a:xfrm>
            </p:grpSpPr>
            <p:grpSp>
              <p:nvGrpSpPr>
                <p:cNvPr id="447" name=""/>
                <p:cNvGrpSpPr/>
                <p:nvPr/>
              </p:nvGrpSpPr>
              <p:grpSpPr>
                <a:xfrm>
                  <a:off x="5631840" y="4156920"/>
                  <a:ext cx="965520" cy="952560"/>
                  <a:chOff x="5631840" y="4156920"/>
                  <a:chExt cx="965520" cy="952560"/>
                </a:xfrm>
              </p:grpSpPr>
              <p:sp>
                <p:nvSpPr>
                  <p:cNvPr id="448" name=""/>
                  <p:cNvSpPr/>
                  <p:nvPr/>
                </p:nvSpPr>
                <p:spPr>
                  <a:xfrm rot="16200000">
                    <a:off x="5907600" y="44226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5631840" y="415692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0" name=""/>
                <p:cNvGrpSpPr/>
                <p:nvPr/>
              </p:nvGrpSpPr>
              <p:grpSpPr>
                <a:xfrm>
                  <a:off x="5286600" y="3816720"/>
                  <a:ext cx="689760" cy="680400"/>
                  <a:chOff x="5286600" y="3816720"/>
                  <a:chExt cx="689760" cy="680400"/>
                </a:xfrm>
              </p:grpSpPr>
              <p:sp>
                <p:nvSpPr>
                  <p:cNvPr id="451" name=""/>
                  <p:cNvSpPr/>
                  <p:nvPr/>
                </p:nvSpPr>
                <p:spPr>
                  <a:xfrm>
                    <a:off x="5286600" y="381672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 rot="16200000">
                    <a:off x="5424120" y="394668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3" name=""/>
                <p:cNvGrpSpPr/>
                <p:nvPr/>
              </p:nvGrpSpPr>
              <p:grpSpPr>
                <a:xfrm>
                  <a:off x="6251400" y="3816720"/>
                  <a:ext cx="689760" cy="680400"/>
                  <a:chOff x="6251400" y="3816720"/>
                  <a:chExt cx="689760" cy="68040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>
                    <a:off x="6251400" y="381672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 rot="16200000">
                    <a:off x="6388560" y="394632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6" name=""/>
                <p:cNvGrpSpPr/>
                <p:nvPr/>
              </p:nvGrpSpPr>
              <p:grpSpPr>
                <a:xfrm>
                  <a:off x="5286600" y="4763880"/>
                  <a:ext cx="689760" cy="680400"/>
                  <a:chOff x="5286600" y="4763880"/>
                  <a:chExt cx="689760" cy="680400"/>
                </a:xfrm>
              </p:grpSpPr>
              <p:sp>
                <p:nvSpPr>
                  <p:cNvPr id="457" name=""/>
                  <p:cNvSpPr/>
                  <p:nvPr/>
                </p:nvSpPr>
                <p:spPr>
                  <a:xfrm>
                    <a:off x="5286600" y="4763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 rot="16200000">
                    <a:off x="5424120" y="489384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9" name=""/>
                <p:cNvGrpSpPr/>
                <p:nvPr/>
              </p:nvGrpSpPr>
              <p:grpSpPr>
                <a:xfrm>
                  <a:off x="6251400" y="4763880"/>
                  <a:ext cx="689760" cy="680400"/>
                  <a:chOff x="6251400" y="4763880"/>
                  <a:chExt cx="689760" cy="680400"/>
                </a:xfrm>
              </p:grpSpPr>
              <p:sp>
                <p:nvSpPr>
                  <p:cNvPr id="460" name=""/>
                  <p:cNvSpPr/>
                  <p:nvPr/>
                </p:nvSpPr>
                <p:spPr>
                  <a:xfrm>
                    <a:off x="6251400" y="4763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 rot="16200000">
                    <a:off x="6388560" y="489348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2" name=""/>
              <p:cNvGrpSpPr/>
              <p:nvPr/>
            </p:nvGrpSpPr>
            <p:grpSpPr>
              <a:xfrm>
                <a:off x="4324320" y="3816720"/>
                <a:ext cx="1654560" cy="1627560"/>
                <a:chOff x="4324320" y="3816720"/>
                <a:chExt cx="1654560" cy="1627560"/>
              </a:xfrm>
            </p:grpSpPr>
            <p:grpSp>
              <p:nvGrpSpPr>
                <p:cNvPr id="463" name=""/>
                <p:cNvGrpSpPr/>
                <p:nvPr/>
              </p:nvGrpSpPr>
              <p:grpSpPr>
                <a:xfrm>
                  <a:off x="4669560" y="4156920"/>
                  <a:ext cx="965520" cy="952560"/>
                  <a:chOff x="4669560" y="4156920"/>
                  <a:chExt cx="965520" cy="952560"/>
                </a:xfrm>
              </p:grpSpPr>
              <p:sp>
                <p:nvSpPr>
                  <p:cNvPr id="464" name=""/>
                  <p:cNvSpPr/>
                  <p:nvPr/>
                </p:nvSpPr>
                <p:spPr>
                  <a:xfrm rot="16200000">
                    <a:off x="4945320" y="442260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4669560" y="4156920"/>
                    <a:ext cx="965520" cy="952560"/>
                  </a:xfrm>
                  <a:prstGeom prst="rect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6" name=""/>
                <p:cNvGrpSpPr/>
                <p:nvPr/>
              </p:nvGrpSpPr>
              <p:grpSpPr>
                <a:xfrm>
                  <a:off x="4324320" y="3816720"/>
                  <a:ext cx="689760" cy="680400"/>
                  <a:chOff x="4324320" y="3816720"/>
                  <a:chExt cx="689760" cy="680400"/>
                </a:xfrm>
              </p:grpSpPr>
              <p:sp>
                <p:nvSpPr>
                  <p:cNvPr id="467" name=""/>
                  <p:cNvSpPr/>
                  <p:nvPr/>
                </p:nvSpPr>
                <p:spPr>
                  <a:xfrm>
                    <a:off x="4324320" y="381672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 rot="16200000">
                    <a:off x="4461840" y="394668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9" name=""/>
                <p:cNvGrpSpPr/>
                <p:nvPr/>
              </p:nvGrpSpPr>
              <p:grpSpPr>
                <a:xfrm>
                  <a:off x="5289120" y="3816720"/>
                  <a:ext cx="689760" cy="680400"/>
                  <a:chOff x="5289120" y="3816720"/>
                  <a:chExt cx="689760" cy="680400"/>
                </a:xfrm>
              </p:grpSpPr>
              <p:sp>
                <p:nvSpPr>
                  <p:cNvPr id="470" name=""/>
                  <p:cNvSpPr/>
                  <p:nvPr/>
                </p:nvSpPr>
                <p:spPr>
                  <a:xfrm>
                    <a:off x="5289120" y="381672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 rot="16200000">
                    <a:off x="5426280" y="394632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4324320" y="4763880"/>
                  <a:ext cx="689760" cy="680400"/>
                  <a:chOff x="4324320" y="4763880"/>
                  <a:chExt cx="689760" cy="68040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>
                    <a:off x="4324320" y="4763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16200000">
                    <a:off x="4461840" y="4893840"/>
                    <a:ext cx="41400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5" name=""/>
                <p:cNvGrpSpPr/>
                <p:nvPr/>
              </p:nvGrpSpPr>
              <p:grpSpPr>
                <a:xfrm>
                  <a:off x="5289120" y="4763880"/>
                  <a:ext cx="689760" cy="680400"/>
                  <a:chOff x="5289120" y="4763880"/>
                  <a:chExt cx="689760" cy="680400"/>
                </a:xfrm>
              </p:grpSpPr>
              <p:sp>
                <p:nvSpPr>
                  <p:cNvPr id="476" name=""/>
                  <p:cNvSpPr/>
                  <p:nvPr/>
                </p:nvSpPr>
                <p:spPr>
                  <a:xfrm>
                    <a:off x="5289120" y="4763880"/>
                    <a:ext cx="689760" cy="68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rot="16200000">
                    <a:off x="5426280" y="4893480"/>
                    <a:ext cx="414360" cy="419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478" name=""/>
          <p:cNvSpPr/>
          <p:nvPr/>
        </p:nvSpPr>
        <p:spPr>
          <a:xfrm>
            <a:off x="3679920" y="3184560"/>
            <a:ext cx="1936800" cy="1936800"/>
          </a:xfrm>
          <a:prstGeom prst="ellipse">
            <a:avLst/>
          </a:prstGeom>
          <a:solidFill>
            <a:srgbClr val="66ff66">
              <a:alpha val="4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024360" y="1557360"/>
            <a:ext cx="1414440" cy="1414440"/>
          </a:xfrm>
          <a:prstGeom prst="ellipse">
            <a:avLst/>
          </a:prstGeom>
          <a:solidFill>
            <a:srgbClr val="66ff66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228680" y="5589720"/>
            <a:ext cx="68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de cône Cerenkov à 1,5m et 2m de la surface des PM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16000" y="225360"/>
            <a:ext cx="650880" cy="65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rot="16200000">
            <a:off x="2951280" y="333360"/>
            <a:ext cx="395280" cy="395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902880" y="36828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’’ (46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439800" y="36828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’’ (28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CA3916-87D5-4598-8B94-FB08B80A935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"/>
          <p:cNvGrpSpPr/>
          <p:nvPr/>
        </p:nvGrpSpPr>
        <p:grpSpPr>
          <a:xfrm>
            <a:off x="888480" y="321840"/>
            <a:ext cx="7832520" cy="5911920"/>
            <a:chOff x="888480" y="321840"/>
            <a:chExt cx="7832520" cy="5911920"/>
          </a:xfrm>
        </p:grpSpPr>
        <p:grpSp>
          <p:nvGrpSpPr>
            <p:cNvPr id="486" name=""/>
            <p:cNvGrpSpPr/>
            <p:nvPr/>
          </p:nvGrpSpPr>
          <p:grpSpPr>
            <a:xfrm>
              <a:off x="888480" y="1812960"/>
              <a:ext cx="2644560" cy="2901240"/>
              <a:chOff x="888480" y="1812960"/>
              <a:chExt cx="2644560" cy="2901240"/>
            </a:xfrm>
          </p:grpSpPr>
          <p:grpSp>
            <p:nvGrpSpPr>
              <p:cNvPr id="487" name=""/>
              <p:cNvGrpSpPr/>
              <p:nvPr/>
            </p:nvGrpSpPr>
            <p:grpSpPr>
              <a:xfrm>
                <a:off x="888840" y="1812960"/>
                <a:ext cx="2644200" cy="2396520"/>
                <a:chOff x="888840" y="1812960"/>
                <a:chExt cx="2644200" cy="2396520"/>
              </a:xfrm>
            </p:grpSpPr>
            <p:grpSp>
              <p:nvGrpSpPr>
                <p:cNvPr id="488" name=""/>
                <p:cNvGrpSpPr/>
                <p:nvPr/>
              </p:nvGrpSpPr>
              <p:grpSpPr>
                <a:xfrm>
                  <a:off x="899280" y="1815480"/>
                  <a:ext cx="1769400" cy="1900440"/>
                  <a:chOff x="899280" y="1815480"/>
                  <a:chExt cx="1769400" cy="190044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 flipV="1" rot="19825800">
                    <a:off x="1497960" y="245664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 flipV="1" rot="19825800">
                    <a:off x="1878840" y="29332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 flipV="1" rot="19825800">
                    <a:off x="1886040" y="19357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flipV="1" rot="19825800">
                    <a:off x="1019520" y="24274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 flipV="1" rot="3625800">
                    <a:off x="1730880" y="257400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"/>
                <p:cNvGrpSpPr/>
                <p:nvPr/>
              </p:nvGrpSpPr>
              <p:grpSpPr>
                <a:xfrm>
                  <a:off x="1763640" y="1812960"/>
                  <a:ext cx="1769400" cy="1900080"/>
                  <a:chOff x="1763640" y="1812960"/>
                  <a:chExt cx="1769400" cy="1900080"/>
                </a:xfrm>
              </p:grpSpPr>
              <p:sp>
                <p:nvSpPr>
                  <p:cNvPr id="495" name=""/>
                  <p:cNvSpPr/>
                  <p:nvPr/>
                </p:nvSpPr>
                <p:spPr>
                  <a:xfrm rot="19825800">
                    <a:off x="1937160" y="221040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 rot="19825800">
                    <a:off x="1890360" y="19332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 rot="19825800">
                    <a:off x="2750400" y="24386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rot="19825800">
                    <a:off x="1883880" y="29304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 rot="14425800">
                    <a:off x="2296800" y="255132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0" name=""/>
                <p:cNvGrpSpPr/>
                <p:nvPr/>
              </p:nvGrpSpPr>
              <p:grpSpPr>
                <a:xfrm>
                  <a:off x="888840" y="2309400"/>
                  <a:ext cx="1769400" cy="1900080"/>
                  <a:chOff x="888840" y="2309400"/>
                  <a:chExt cx="1769400" cy="1900080"/>
                </a:xfrm>
              </p:grpSpPr>
              <p:sp>
                <p:nvSpPr>
                  <p:cNvPr id="501" name=""/>
                  <p:cNvSpPr/>
                  <p:nvPr/>
                </p:nvSpPr>
                <p:spPr>
                  <a:xfrm rot="19825800">
                    <a:off x="1062360" y="270684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 rot="19825800">
                    <a:off x="1015560" y="24296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 rot="19825800">
                    <a:off x="1875600" y="29350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rot="19825800">
                    <a:off x="1009080" y="34268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 rot="14425800">
                    <a:off x="1422000" y="304740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6" name=""/>
              <p:cNvGrpSpPr/>
              <p:nvPr/>
            </p:nvGrpSpPr>
            <p:grpSpPr>
              <a:xfrm>
                <a:off x="888480" y="2318400"/>
                <a:ext cx="2644560" cy="2395800"/>
                <a:chOff x="888480" y="2318400"/>
                <a:chExt cx="2644560" cy="2395800"/>
              </a:xfrm>
            </p:grpSpPr>
            <p:grpSp>
              <p:nvGrpSpPr>
                <p:cNvPr id="507" name=""/>
                <p:cNvGrpSpPr/>
                <p:nvPr/>
              </p:nvGrpSpPr>
              <p:grpSpPr>
                <a:xfrm>
                  <a:off x="1751400" y="2813040"/>
                  <a:ext cx="1769400" cy="1899000"/>
                  <a:chOff x="1751400" y="2813040"/>
                  <a:chExt cx="1769400" cy="1899000"/>
                </a:xfrm>
              </p:grpSpPr>
              <p:sp>
                <p:nvSpPr>
                  <p:cNvPr id="508" name=""/>
                  <p:cNvSpPr/>
                  <p:nvPr/>
                </p:nvSpPr>
                <p:spPr>
                  <a:xfrm rot="19825800">
                    <a:off x="1924920" y="320976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 rot="19825800">
                    <a:off x="1878480" y="293328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rot="19825800">
                    <a:off x="2738160" y="34376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rot="19825800">
                    <a:off x="1871640" y="39294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 rot="14425800">
                    <a:off x="2284920" y="355068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3" name=""/>
                <p:cNvGrpSpPr/>
                <p:nvPr/>
              </p:nvGrpSpPr>
              <p:grpSpPr>
                <a:xfrm>
                  <a:off x="1763280" y="2318400"/>
                  <a:ext cx="1769760" cy="1899360"/>
                  <a:chOff x="1763280" y="2318400"/>
                  <a:chExt cx="1769760" cy="189936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 flipV="1" rot="19825800">
                    <a:off x="2362320" y="295920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flipV="1" rot="19825800">
                    <a:off x="2742480" y="343512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flipV="1" rot="19825800">
                    <a:off x="2750400" y="24386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flipV="1" rot="19825800">
                    <a:off x="1883520" y="29300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flipV="1" rot="3625800">
                    <a:off x="2595240" y="307620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9" name=""/>
                <p:cNvGrpSpPr/>
                <p:nvPr/>
              </p:nvGrpSpPr>
              <p:grpSpPr>
                <a:xfrm>
                  <a:off x="888480" y="2814480"/>
                  <a:ext cx="1769760" cy="1899720"/>
                  <a:chOff x="888480" y="2814480"/>
                  <a:chExt cx="1769760" cy="1899720"/>
                </a:xfrm>
              </p:grpSpPr>
              <p:sp>
                <p:nvSpPr>
                  <p:cNvPr id="520" name=""/>
                  <p:cNvSpPr/>
                  <p:nvPr/>
                </p:nvSpPr>
                <p:spPr>
                  <a:xfrm flipV="1" rot="19825800">
                    <a:off x="1487520" y="345564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 flipV="1" rot="19825800">
                    <a:off x="1867680" y="393156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V="1" rot="19825800">
                    <a:off x="1875600" y="29347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 flipV="1" rot="19825800">
                    <a:off x="1008720" y="34264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 flipV="1" rot="3625800">
                    <a:off x="1720080" y="357264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25" name=""/>
            <p:cNvGrpSpPr/>
            <p:nvPr/>
          </p:nvGrpSpPr>
          <p:grpSpPr>
            <a:xfrm>
              <a:off x="2617200" y="1825200"/>
              <a:ext cx="2644920" cy="2900880"/>
              <a:chOff x="2617200" y="1825200"/>
              <a:chExt cx="2644920" cy="2900880"/>
            </a:xfrm>
          </p:grpSpPr>
          <p:grpSp>
            <p:nvGrpSpPr>
              <p:cNvPr id="526" name=""/>
              <p:cNvGrpSpPr/>
              <p:nvPr/>
            </p:nvGrpSpPr>
            <p:grpSpPr>
              <a:xfrm>
                <a:off x="2617200" y="1825200"/>
                <a:ext cx="2644560" cy="2395440"/>
                <a:chOff x="2617200" y="1825200"/>
                <a:chExt cx="2644560" cy="2395440"/>
              </a:xfrm>
            </p:grpSpPr>
            <p:grpSp>
              <p:nvGrpSpPr>
                <p:cNvPr id="527" name=""/>
                <p:cNvGrpSpPr/>
                <p:nvPr/>
              </p:nvGrpSpPr>
              <p:grpSpPr>
                <a:xfrm>
                  <a:off x="2628360" y="1827720"/>
                  <a:ext cx="1769400" cy="1899360"/>
                  <a:chOff x="2628360" y="1827720"/>
                  <a:chExt cx="1769400" cy="1899360"/>
                </a:xfrm>
              </p:grpSpPr>
              <p:sp>
                <p:nvSpPr>
                  <p:cNvPr id="528" name=""/>
                  <p:cNvSpPr/>
                  <p:nvPr/>
                </p:nvSpPr>
                <p:spPr>
                  <a:xfrm flipV="1" rot="19825800">
                    <a:off x="3227040" y="246852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 flipV="1" rot="19825800">
                    <a:off x="3607560" y="294444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 flipV="1" rot="19825800">
                    <a:off x="3615120" y="19479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 flipV="1" rot="19825800">
                    <a:off x="2748600" y="24393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 flipV="1" rot="3625800">
                    <a:off x="3459960" y="258552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3" name=""/>
                <p:cNvGrpSpPr/>
                <p:nvPr/>
              </p:nvGrpSpPr>
              <p:grpSpPr>
                <a:xfrm>
                  <a:off x="3492360" y="1825200"/>
                  <a:ext cx="1769400" cy="1899000"/>
                  <a:chOff x="3492360" y="1825200"/>
                  <a:chExt cx="1769400" cy="1899000"/>
                </a:xfrm>
              </p:grpSpPr>
              <p:sp>
                <p:nvSpPr>
                  <p:cNvPr id="534" name=""/>
                  <p:cNvSpPr/>
                  <p:nvPr/>
                </p:nvSpPr>
                <p:spPr>
                  <a:xfrm rot="19825800">
                    <a:off x="3665880" y="222192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 rot="19825800">
                    <a:off x="3619440" y="194544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 rot="19825800">
                    <a:off x="4479120" y="24498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 rot="19825800">
                    <a:off x="3612600" y="29415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 rot="14425800">
                    <a:off x="4025880" y="256284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9" name=""/>
                <p:cNvGrpSpPr/>
                <p:nvPr/>
              </p:nvGrpSpPr>
              <p:grpSpPr>
                <a:xfrm>
                  <a:off x="2617200" y="2321640"/>
                  <a:ext cx="1769760" cy="1899000"/>
                  <a:chOff x="2617200" y="2321640"/>
                  <a:chExt cx="1769760" cy="1899000"/>
                </a:xfrm>
              </p:grpSpPr>
              <p:sp>
                <p:nvSpPr>
                  <p:cNvPr id="540" name=""/>
                  <p:cNvSpPr/>
                  <p:nvPr/>
                </p:nvSpPr>
                <p:spPr>
                  <a:xfrm rot="19825800">
                    <a:off x="2791080" y="271836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rot="19825800">
                    <a:off x="2744280" y="244188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rot="19825800">
                    <a:off x="3604320" y="29462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rot="19825800">
                    <a:off x="2737440" y="34380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rot="14425800">
                    <a:off x="3151080" y="305928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5" name=""/>
              <p:cNvGrpSpPr/>
              <p:nvPr/>
            </p:nvGrpSpPr>
            <p:grpSpPr>
              <a:xfrm>
                <a:off x="2617560" y="2330280"/>
                <a:ext cx="2644560" cy="2395800"/>
                <a:chOff x="2617560" y="2330280"/>
                <a:chExt cx="2644560" cy="2395800"/>
              </a:xfrm>
            </p:grpSpPr>
            <p:grpSp>
              <p:nvGrpSpPr>
                <p:cNvPr id="546" name=""/>
                <p:cNvGrpSpPr/>
                <p:nvPr/>
              </p:nvGrpSpPr>
              <p:grpSpPr>
                <a:xfrm>
                  <a:off x="3480480" y="2824920"/>
                  <a:ext cx="1769400" cy="1899000"/>
                  <a:chOff x="3480480" y="2824920"/>
                  <a:chExt cx="1769400" cy="189900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rot="19825800">
                    <a:off x="3654000" y="322164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rot="19825800">
                    <a:off x="3607560" y="294516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rot="19825800">
                    <a:off x="4467240" y="34495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rot="19825800">
                    <a:off x="3600720" y="39412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rot="14425800">
                    <a:off x="4014000" y="356256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2" name=""/>
                <p:cNvGrpSpPr/>
                <p:nvPr/>
              </p:nvGrpSpPr>
              <p:grpSpPr>
                <a:xfrm>
                  <a:off x="3492360" y="2330280"/>
                  <a:ext cx="1769760" cy="1899360"/>
                  <a:chOff x="3492360" y="2330280"/>
                  <a:chExt cx="1769760" cy="1899360"/>
                </a:xfrm>
              </p:grpSpPr>
              <p:sp>
                <p:nvSpPr>
                  <p:cNvPr id="553" name=""/>
                  <p:cNvSpPr/>
                  <p:nvPr/>
                </p:nvSpPr>
                <p:spPr>
                  <a:xfrm flipV="1" rot="19825800">
                    <a:off x="4091400" y="297108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 flipV="1" rot="19825800">
                    <a:off x="4471560" y="344700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 flipV="1" rot="19825800">
                    <a:off x="4479480" y="24505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 flipV="1" rot="19825800">
                    <a:off x="3612600" y="29422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 flipV="1" rot="3625800">
                    <a:off x="4323960" y="308808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8" name=""/>
                <p:cNvGrpSpPr/>
                <p:nvPr/>
              </p:nvGrpSpPr>
              <p:grpSpPr>
                <a:xfrm>
                  <a:off x="2617560" y="2826360"/>
                  <a:ext cx="1769760" cy="1899720"/>
                  <a:chOff x="2617560" y="2826360"/>
                  <a:chExt cx="1769760" cy="1899720"/>
                </a:xfrm>
              </p:grpSpPr>
              <p:sp>
                <p:nvSpPr>
                  <p:cNvPr id="559" name=""/>
                  <p:cNvSpPr/>
                  <p:nvPr/>
                </p:nvSpPr>
                <p:spPr>
                  <a:xfrm flipV="1" rot="19825800">
                    <a:off x="3216600" y="346752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 flipV="1" rot="19825800">
                    <a:off x="3596760" y="394344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 flipV="1" rot="19825800">
                    <a:off x="3604680" y="29466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 flipV="1" rot="19825800">
                    <a:off x="2737800" y="34383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 flipV="1" rot="3625800">
                    <a:off x="3449160" y="358452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64" name=""/>
            <p:cNvGrpSpPr/>
            <p:nvPr/>
          </p:nvGrpSpPr>
          <p:grpSpPr>
            <a:xfrm>
              <a:off x="4347000" y="1836720"/>
              <a:ext cx="2644920" cy="2900880"/>
              <a:chOff x="4347000" y="1836720"/>
              <a:chExt cx="2644920" cy="2900880"/>
            </a:xfrm>
          </p:grpSpPr>
          <p:grpSp>
            <p:nvGrpSpPr>
              <p:cNvPr id="565" name=""/>
              <p:cNvGrpSpPr/>
              <p:nvPr/>
            </p:nvGrpSpPr>
            <p:grpSpPr>
              <a:xfrm>
                <a:off x="4347000" y="1836720"/>
                <a:ext cx="2644560" cy="2395440"/>
                <a:chOff x="4347000" y="1836720"/>
                <a:chExt cx="2644560" cy="2395440"/>
              </a:xfrm>
            </p:grpSpPr>
            <p:grpSp>
              <p:nvGrpSpPr>
                <p:cNvPr id="566" name=""/>
                <p:cNvGrpSpPr/>
                <p:nvPr/>
              </p:nvGrpSpPr>
              <p:grpSpPr>
                <a:xfrm>
                  <a:off x="4357800" y="1839240"/>
                  <a:ext cx="1769760" cy="1899360"/>
                  <a:chOff x="4357800" y="1839240"/>
                  <a:chExt cx="1769760" cy="1899360"/>
                </a:xfrm>
              </p:grpSpPr>
              <p:sp>
                <p:nvSpPr>
                  <p:cNvPr id="567" name=""/>
                  <p:cNvSpPr/>
                  <p:nvPr/>
                </p:nvSpPr>
                <p:spPr>
                  <a:xfrm flipV="1" rot="19825800">
                    <a:off x="4956840" y="248004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 flipV="1" rot="19825800">
                    <a:off x="5337000" y="295596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 flipV="1" rot="19825800">
                    <a:off x="5344920" y="19594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 flipV="1" rot="19825800">
                    <a:off x="4478040" y="24512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 flipV="1" rot="3625800">
                    <a:off x="5189400" y="259704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2" name=""/>
                <p:cNvGrpSpPr/>
                <p:nvPr/>
              </p:nvGrpSpPr>
              <p:grpSpPr>
                <a:xfrm>
                  <a:off x="5221800" y="1836720"/>
                  <a:ext cx="1769760" cy="1899360"/>
                  <a:chOff x="5221800" y="1836720"/>
                  <a:chExt cx="1769760" cy="1899360"/>
                </a:xfrm>
              </p:grpSpPr>
              <p:sp>
                <p:nvSpPr>
                  <p:cNvPr id="573" name=""/>
                  <p:cNvSpPr/>
                  <p:nvPr/>
                </p:nvSpPr>
                <p:spPr>
                  <a:xfrm rot="19825800">
                    <a:off x="5395680" y="223344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rot="19825800">
                    <a:off x="5348880" y="195696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rot="19825800">
                    <a:off x="6208920" y="24616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rot="19825800">
                    <a:off x="5342040" y="29534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rot="14425800">
                    <a:off x="5755680" y="257436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8" name=""/>
                <p:cNvGrpSpPr/>
                <p:nvPr/>
              </p:nvGrpSpPr>
              <p:grpSpPr>
                <a:xfrm>
                  <a:off x="4347000" y="2333160"/>
                  <a:ext cx="1769760" cy="1899000"/>
                  <a:chOff x="4347000" y="2333160"/>
                  <a:chExt cx="1769760" cy="1899000"/>
                </a:xfrm>
              </p:grpSpPr>
              <p:sp>
                <p:nvSpPr>
                  <p:cNvPr id="579" name=""/>
                  <p:cNvSpPr/>
                  <p:nvPr/>
                </p:nvSpPr>
                <p:spPr>
                  <a:xfrm rot="19825800">
                    <a:off x="4520880" y="272988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 rot="19825800">
                    <a:off x="4474080" y="245340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rot="19825800">
                    <a:off x="5334120" y="29577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rot="19825800">
                    <a:off x="4467240" y="34495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rot="14425800">
                    <a:off x="4880520" y="307080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84" name=""/>
              <p:cNvGrpSpPr/>
              <p:nvPr/>
            </p:nvGrpSpPr>
            <p:grpSpPr>
              <a:xfrm>
                <a:off x="4347360" y="2341800"/>
                <a:ext cx="2644560" cy="2395800"/>
                <a:chOff x="4347360" y="2341800"/>
                <a:chExt cx="2644560" cy="2395800"/>
              </a:xfrm>
            </p:grpSpPr>
            <p:grpSp>
              <p:nvGrpSpPr>
                <p:cNvPr id="585" name=""/>
                <p:cNvGrpSpPr/>
                <p:nvPr/>
              </p:nvGrpSpPr>
              <p:grpSpPr>
                <a:xfrm>
                  <a:off x="5209920" y="2836440"/>
                  <a:ext cx="1769760" cy="1899360"/>
                  <a:chOff x="5209920" y="2836440"/>
                  <a:chExt cx="1769760" cy="1899360"/>
                </a:xfrm>
              </p:grpSpPr>
              <p:sp>
                <p:nvSpPr>
                  <p:cNvPr id="586" name=""/>
                  <p:cNvSpPr/>
                  <p:nvPr/>
                </p:nvSpPr>
                <p:spPr>
                  <a:xfrm rot="19825800">
                    <a:off x="5383800" y="323316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 rot="19825800">
                    <a:off x="5337000" y="295668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 rot="19825800">
                    <a:off x="6197040" y="34614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 rot="19825800">
                    <a:off x="5330160" y="39531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 rot="14425800">
                    <a:off x="5743800" y="357408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1" name=""/>
                <p:cNvGrpSpPr/>
                <p:nvPr/>
              </p:nvGrpSpPr>
              <p:grpSpPr>
                <a:xfrm>
                  <a:off x="5222160" y="2341800"/>
                  <a:ext cx="1769760" cy="1899360"/>
                  <a:chOff x="5222160" y="2341800"/>
                  <a:chExt cx="1769760" cy="1899360"/>
                </a:xfrm>
              </p:grpSpPr>
              <p:sp>
                <p:nvSpPr>
                  <p:cNvPr id="592" name=""/>
                  <p:cNvSpPr/>
                  <p:nvPr/>
                </p:nvSpPr>
                <p:spPr>
                  <a:xfrm flipV="1" rot="19825800">
                    <a:off x="5820840" y="298260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 flipV="1" rot="19825800">
                    <a:off x="6201360" y="345852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 flipV="1" rot="19825800">
                    <a:off x="6209280" y="24620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 flipV="1" rot="19825800">
                    <a:off x="5342400" y="29538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V="1" rot="3625800">
                    <a:off x="6053760" y="309960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7" name=""/>
                <p:cNvGrpSpPr/>
                <p:nvPr/>
              </p:nvGrpSpPr>
              <p:grpSpPr>
                <a:xfrm>
                  <a:off x="4347360" y="2838240"/>
                  <a:ext cx="1769400" cy="1899360"/>
                  <a:chOff x="4347360" y="2838240"/>
                  <a:chExt cx="1769400" cy="1899360"/>
                </a:xfrm>
              </p:grpSpPr>
              <p:sp>
                <p:nvSpPr>
                  <p:cNvPr id="598" name=""/>
                  <p:cNvSpPr/>
                  <p:nvPr/>
                </p:nvSpPr>
                <p:spPr>
                  <a:xfrm flipV="1" rot="19825800">
                    <a:off x="4946040" y="347904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 flipV="1" rot="19825800">
                    <a:off x="5326560" y="395496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 flipV="1" rot="19825800">
                    <a:off x="5334120" y="29584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flipV="1" rot="19825800">
                    <a:off x="4467600" y="34502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 flipV="1" rot="3625800">
                    <a:off x="5178960" y="359604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03" name=""/>
            <p:cNvGrpSpPr/>
            <p:nvPr/>
          </p:nvGrpSpPr>
          <p:grpSpPr>
            <a:xfrm>
              <a:off x="6076080" y="1848240"/>
              <a:ext cx="2644920" cy="2900880"/>
              <a:chOff x="6076080" y="1848240"/>
              <a:chExt cx="2644920" cy="2900880"/>
            </a:xfrm>
          </p:grpSpPr>
          <p:grpSp>
            <p:nvGrpSpPr>
              <p:cNvPr id="604" name=""/>
              <p:cNvGrpSpPr/>
              <p:nvPr/>
            </p:nvGrpSpPr>
            <p:grpSpPr>
              <a:xfrm>
                <a:off x="6076080" y="1848240"/>
                <a:ext cx="2644560" cy="2395440"/>
                <a:chOff x="6076080" y="1848240"/>
                <a:chExt cx="2644560" cy="2395440"/>
              </a:xfrm>
            </p:grpSpPr>
            <p:grpSp>
              <p:nvGrpSpPr>
                <p:cNvPr id="605" name=""/>
                <p:cNvGrpSpPr/>
                <p:nvPr/>
              </p:nvGrpSpPr>
              <p:grpSpPr>
                <a:xfrm>
                  <a:off x="6087240" y="1850400"/>
                  <a:ext cx="1769400" cy="1899720"/>
                  <a:chOff x="6087240" y="1850400"/>
                  <a:chExt cx="1769400" cy="1899720"/>
                </a:xfrm>
              </p:grpSpPr>
              <p:sp>
                <p:nvSpPr>
                  <p:cNvPr id="606" name=""/>
                  <p:cNvSpPr/>
                  <p:nvPr/>
                </p:nvSpPr>
                <p:spPr>
                  <a:xfrm flipV="1" rot="19825800">
                    <a:off x="6685920" y="249156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flipV="1" rot="19825800">
                    <a:off x="7066080" y="296748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flipV="1" rot="19825800">
                    <a:off x="7074000" y="19706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flipV="1" rot="19825800">
                    <a:off x="6207480" y="24624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flipV="1" rot="3625800">
                    <a:off x="6918840" y="260856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1" name=""/>
                <p:cNvGrpSpPr/>
                <p:nvPr/>
              </p:nvGrpSpPr>
              <p:grpSpPr>
                <a:xfrm>
                  <a:off x="6951240" y="1848240"/>
                  <a:ext cx="1769400" cy="1899000"/>
                  <a:chOff x="6951240" y="1848240"/>
                  <a:chExt cx="1769400" cy="1899000"/>
                </a:xfrm>
              </p:grpSpPr>
              <p:sp>
                <p:nvSpPr>
                  <p:cNvPr id="612" name=""/>
                  <p:cNvSpPr/>
                  <p:nvPr/>
                </p:nvSpPr>
                <p:spPr>
                  <a:xfrm rot="19825800">
                    <a:off x="7124760" y="224496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rot="19825800">
                    <a:off x="7077960" y="196848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rot="19825800">
                    <a:off x="7938000" y="24728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rot="19825800">
                    <a:off x="7071480" y="29646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14425800">
                    <a:off x="7484760" y="258588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7" name=""/>
                <p:cNvGrpSpPr/>
                <p:nvPr/>
              </p:nvGrpSpPr>
              <p:grpSpPr>
                <a:xfrm>
                  <a:off x="6076080" y="2344680"/>
                  <a:ext cx="1769760" cy="1899000"/>
                  <a:chOff x="6076080" y="2344680"/>
                  <a:chExt cx="1769760" cy="189900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 rot="19825800">
                    <a:off x="6249960" y="274104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rot="19825800">
                    <a:off x="6203160" y="246492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 rot="19825800">
                    <a:off x="7063200" y="29692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 rot="19825800">
                    <a:off x="6196320" y="34610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 rot="14425800">
                    <a:off x="6609960" y="308232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3" name=""/>
              <p:cNvGrpSpPr/>
              <p:nvPr/>
            </p:nvGrpSpPr>
            <p:grpSpPr>
              <a:xfrm>
                <a:off x="6076440" y="2353320"/>
                <a:ext cx="2644560" cy="2395800"/>
                <a:chOff x="6076440" y="2353320"/>
                <a:chExt cx="2644560" cy="2395800"/>
              </a:xfrm>
            </p:grpSpPr>
            <p:grpSp>
              <p:nvGrpSpPr>
                <p:cNvPr id="624" name=""/>
                <p:cNvGrpSpPr/>
                <p:nvPr/>
              </p:nvGrpSpPr>
              <p:grpSpPr>
                <a:xfrm>
                  <a:off x="6939360" y="2847960"/>
                  <a:ext cx="1769400" cy="1899000"/>
                  <a:chOff x="6939360" y="2847960"/>
                  <a:chExt cx="1769400" cy="1899000"/>
                </a:xfrm>
              </p:grpSpPr>
              <p:sp>
                <p:nvSpPr>
                  <p:cNvPr id="625" name=""/>
                  <p:cNvSpPr/>
                  <p:nvPr/>
                </p:nvSpPr>
                <p:spPr>
                  <a:xfrm rot="19825800">
                    <a:off x="7112880" y="324468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 rot="19825800">
                    <a:off x="7066440" y="296820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 rot="19825800">
                    <a:off x="7926120" y="34725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 rot="19825800">
                    <a:off x="7059600" y="39643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 rot="14425800">
                    <a:off x="7472880" y="358560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0" name=""/>
                <p:cNvGrpSpPr/>
                <p:nvPr/>
              </p:nvGrpSpPr>
              <p:grpSpPr>
                <a:xfrm>
                  <a:off x="6951240" y="2353320"/>
                  <a:ext cx="1769760" cy="1899360"/>
                  <a:chOff x="6951240" y="2353320"/>
                  <a:chExt cx="1769760" cy="1899360"/>
                </a:xfrm>
              </p:grpSpPr>
              <p:sp>
                <p:nvSpPr>
                  <p:cNvPr id="631" name=""/>
                  <p:cNvSpPr/>
                  <p:nvPr/>
                </p:nvSpPr>
                <p:spPr>
                  <a:xfrm flipV="1" rot="19825800">
                    <a:off x="7550280" y="299412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 flipV="1" rot="19825800">
                    <a:off x="7930440" y="347004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 flipV="1" rot="19825800">
                    <a:off x="7938360" y="24735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 flipV="1" rot="19825800">
                    <a:off x="7071480" y="29653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 flipV="1" rot="3625800">
                    <a:off x="7782840" y="311112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6" name=""/>
                <p:cNvGrpSpPr/>
                <p:nvPr/>
              </p:nvGrpSpPr>
              <p:grpSpPr>
                <a:xfrm>
                  <a:off x="6076440" y="2849400"/>
                  <a:ext cx="1769760" cy="1899720"/>
                  <a:chOff x="6076440" y="2849400"/>
                  <a:chExt cx="1769760" cy="1899720"/>
                </a:xfrm>
              </p:grpSpPr>
              <p:sp>
                <p:nvSpPr>
                  <p:cNvPr id="637" name=""/>
                  <p:cNvSpPr/>
                  <p:nvPr/>
                </p:nvSpPr>
                <p:spPr>
                  <a:xfrm flipV="1" rot="19825800">
                    <a:off x="6675480" y="349056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 flipV="1" rot="19825800">
                    <a:off x="7055640" y="396648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flipV="1" rot="19825800">
                    <a:off x="7063560" y="29696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flipV="1" rot="19825800">
                    <a:off x="6196680" y="34614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flipV="1" rot="3625800">
                    <a:off x="6908040" y="360756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42" name=""/>
            <p:cNvGrpSpPr/>
            <p:nvPr/>
          </p:nvGrpSpPr>
          <p:grpSpPr>
            <a:xfrm>
              <a:off x="1740600" y="3315600"/>
              <a:ext cx="2644920" cy="2900880"/>
              <a:chOff x="1740600" y="3315600"/>
              <a:chExt cx="2644920" cy="2900880"/>
            </a:xfrm>
          </p:grpSpPr>
          <p:grpSp>
            <p:nvGrpSpPr>
              <p:cNvPr id="643" name=""/>
              <p:cNvGrpSpPr/>
              <p:nvPr/>
            </p:nvGrpSpPr>
            <p:grpSpPr>
              <a:xfrm>
                <a:off x="1740600" y="3315600"/>
                <a:ext cx="2644560" cy="2395440"/>
                <a:chOff x="1740600" y="3315600"/>
                <a:chExt cx="2644560" cy="2395440"/>
              </a:xfrm>
            </p:grpSpPr>
            <p:grpSp>
              <p:nvGrpSpPr>
                <p:cNvPr id="644" name=""/>
                <p:cNvGrpSpPr/>
                <p:nvPr/>
              </p:nvGrpSpPr>
              <p:grpSpPr>
                <a:xfrm>
                  <a:off x="1751760" y="3317760"/>
                  <a:ext cx="1769400" cy="1899720"/>
                  <a:chOff x="1751760" y="3317760"/>
                  <a:chExt cx="1769400" cy="189972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 flipV="1" rot="19825800">
                    <a:off x="2350440" y="395892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 flipV="1" rot="19825800">
                    <a:off x="2730600" y="443484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flipV="1" rot="19825800">
                    <a:off x="2738520" y="34380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flipV="1" rot="19825800">
                    <a:off x="1872000" y="39297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 flipV="1" rot="3625800">
                    <a:off x="2583360" y="407592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0" name=""/>
                <p:cNvGrpSpPr/>
                <p:nvPr/>
              </p:nvGrpSpPr>
              <p:grpSpPr>
                <a:xfrm>
                  <a:off x="2615400" y="3315600"/>
                  <a:ext cx="1769760" cy="1899000"/>
                  <a:chOff x="2615400" y="3315600"/>
                  <a:chExt cx="1769760" cy="1899000"/>
                </a:xfrm>
              </p:grpSpPr>
              <p:sp>
                <p:nvSpPr>
                  <p:cNvPr id="651" name=""/>
                  <p:cNvSpPr/>
                  <p:nvPr/>
                </p:nvSpPr>
                <p:spPr>
                  <a:xfrm rot="19825800">
                    <a:off x="2789280" y="371232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rot="19825800">
                    <a:off x="2742480" y="343584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 rot="19825800">
                    <a:off x="3602520" y="39402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 rot="19825800">
                    <a:off x="2735640" y="44319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 rot="14425800">
                    <a:off x="3149280" y="405324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6" name=""/>
                <p:cNvGrpSpPr/>
                <p:nvPr/>
              </p:nvGrpSpPr>
              <p:grpSpPr>
                <a:xfrm>
                  <a:off x="1740600" y="3812040"/>
                  <a:ext cx="1769760" cy="1899000"/>
                  <a:chOff x="1740600" y="3812040"/>
                  <a:chExt cx="1769760" cy="1899000"/>
                </a:xfrm>
              </p:grpSpPr>
              <p:sp>
                <p:nvSpPr>
                  <p:cNvPr id="657" name=""/>
                  <p:cNvSpPr/>
                  <p:nvPr/>
                </p:nvSpPr>
                <p:spPr>
                  <a:xfrm rot="19825800">
                    <a:off x="1914480" y="420876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 rot="19825800">
                    <a:off x="1867680" y="393228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 rot="19825800">
                    <a:off x="2727720" y="44366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 rot="19825800">
                    <a:off x="1860840" y="49284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 rot="14425800">
                    <a:off x="2274480" y="454968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62" name=""/>
              <p:cNvGrpSpPr/>
              <p:nvPr/>
            </p:nvGrpSpPr>
            <p:grpSpPr>
              <a:xfrm>
                <a:off x="1740960" y="3820680"/>
                <a:ext cx="2644560" cy="2395800"/>
                <a:chOff x="1740960" y="3820680"/>
                <a:chExt cx="2644560" cy="2395800"/>
              </a:xfrm>
            </p:grpSpPr>
            <p:grpSp>
              <p:nvGrpSpPr>
                <p:cNvPr id="663" name=""/>
                <p:cNvGrpSpPr/>
                <p:nvPr/>
              </p:nvGrpSpPr>
              <p:grpSpPr>
                <a:xfrm>
                  <a:off x="2603520" y="4315320"/>
                  <a:ext cx="1769760" cy="1899000"/>
                  <a:chOff x="2603520" y="4315320"/>
                  <a:chExt cx="1769760" cy="1899000"/>
                </a:xfrm>
              </p:grpSpPr>
              <p:sp>
                <p:nvSpPr>
                  <p:cNvPr id="664" name=""/>
                  <p:cNvSpPr/>
                  <p:nvPr/>
                </p:nvSpPr>
                <p:spPr>
                  <a:xfrm rot="19825800">
                    <a:off x="2777400" y="471204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 rot="19825800">
                    <a:off x="2730600" y="443556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 rot="19825800">
                    <a:off x="3590640" y="49399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 rot="19825800">
                    <a:off x="2723760" y="54316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 rot="14425800">
                    <a:off x="3137400" y="505296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9" name=""/>
                <p:cNvGrpSpPr/>
                <p:nvPr/>
              </p:nvGrpSpPr>
              <p:grpSpPr>
                <a:xfrm>
                  <a:off x="2615760" y="3820680"/>
                  <a:ext cx="1769760" cy="1899360"/>
                  <a:chOff x="2615760" y="3820680"/>
                  <a:chExt cx="1769760" cy="1899360"/>
                </a:xfrm>
              </p:grpSpPr>
              <p:sp>
                <p:nvSpPr>
                  <p:cNvPr id="670" name=""/>
                  <p:cNvSpPr/>
                  <p:nvPr/>
                </p:nvSpPr>
                <p:spPr>
                  <a:xfrm flipV="1" rot="19825800">
                    <a:off x="3214800" y="446148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 flipV="1" rot="19825800">
                    <a:off x="3594960" y="493740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 flipV="1" rot="19825800">
                    <a:off x="3602880" y="39409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 flipV="1" rot="19825800">
                    <a:off x="2736000" y="44326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 flipV="1" rot="3625800">
                    <a:off x="3447360" y="457848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5" name=""/>
                <p:cNvGrpSpPr/>
                <p:nvPr/>
              </p:nvGrpSpPr>
              <p:grpSpPr>
                <a:xfrm>
                  <a:off x="1740960" y="4316760"/>
                  <a:ext cx="1769760" cy="1899720"/>
                  <a:chOff x="1740960" y="4316760"/>
                  <a:chExt cx="1769760" cy="1899720"/>
                </a:xfrm>
              </p:grpSpPr>
              <p:sp>
                <p:nvSpPr>
                  <p:cNvPr id="676" name=""/>
                  <p:cNvSpPr/>
                  <p:nvPr/>
                </p:nvSpPr>
                <p:spPr>
                  <a:xfrm flipV="1" rot="19825800">
                    <a:off x="2339640" y="495792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 flipV="1" rot="19825800">
                    <a:off x="2720160" y="543384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 flipV="1" rot="19825800">
                    <a:off x="2728080" y="44370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 flipV="1" rot="19825800">
                    <a:off x="1861200" y="49287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 flipV="1" rot="3625800">
                    <a:off x="2572560" y="507492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81" name=""/>
            <p:cNvGrpSpPr/>
            <p:nvPr/>
          </p:nvGrpSpPr>
          <p:grpSpPr>
            <a:xfrm>
              <a:off x="3480840" y="3321000"/>
              <a:ext cx="2644560" cy="2900520"/>
              <a:chOff x="3480840" y="3321000"/>
              <a:chExt cx="2644560" cy="2900520"/>
            </a:xfrm>
          </p:grpSpPr>
          <p:grpSp>
            <p:nvGrpSpPr>
              <p:cNvPr id="682" name=""/>
              <p:cNvGrpSpPr/>
              <p:nvPr/>
            </p:nvGrpSpPr>
            <p:grpSpPr>
              <a:xfrm>
                <a:off x="3480840" y="3321000"/>
                <a:ext cx="2644560" cy="2395440"/>
                <a:chOff x="3480840" y="3321000"/>
                <a:chExt cx="2644560" cy="2395440"/>
              </a:xfrm>
            </p:grpSpPr>
            <p:grpSp>
              <p:nvGrpSpPr>
                <p:cNvPr id="683" name=""/>
                <p:cNvGrpSpPr/>
                <p:nvPr/>
              </p:nvGrpSpPr>
              <p:grpSpPr>
                <a:xfrm>
                  <a:off x="3491640" y="3323160"/>
                  <a:ext cx="1769760" cy="1899360"/>
                  <a:chOff x="3491640" y="3323160"/>
                  <a:chExt cx="1769760" cy="1899360"/>
                </a:xfrm>
              </p:grpSpPr>
              <p:sp>
                <p:nvSpPr>
                  <p:cNvPr id="684" name=""/>
                  <p:cNvSpPr/>
                  <p:nvPr/>
                </p:nvSpPr>
                <p:spPr>
                  <a:xfrm flipV="1" rot="19825800">
                    <a:off x="4090680" y="396432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 flipV="1" rot="19825800">
                    <a:off x="4470840" y="443988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 flipV="1" rot="19825800">
                    <a:off x="4478760" y="34434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 flipV="1" rot="19825800">
                    <a:off x="3611880" y="39351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 flipV="1" rot="3625800">
                    <a:off x="4323240" y="408096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9" name=""/>
                <p:cNvGrpSpPr/>
                <p:nvPr/>
              </p:nvGrpSpPr>
              <p:grpSpPr>
                <a:xfrm>
                  <a:off x="4355640" y="3321000"/>
                  <a:ext cx="1769760" cy="1899000"/>
                  <a:chOff x="4355640" y="3321000"/>
                  <a:chExt cx="1769760" cy="189900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 rot="19825800">
                    <a:off x="4529520" y="371736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 rot="19825800">
                    <a:off x="4482720" y="344124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 rot="19825800">
                    <a:off x="5342760" y="39456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 rot="19825800">
                    <a:off x="4475880" y="44373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 rot="14425800">
                    <a:off x="4889160" y="405828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5" name=""/>
                <p:cNvGrpSpPr/>
                <p:nvPr/>
              </p:nvGrpSpPr>
              <p:grpSpPr>
                <a:xfrm>
                  <a:off x="3480840" y="3817080"/>
                  <a:ext cx="1769760" cy="1899360"/>
                  <a:chOff x="3480840" y="3817080"/>
                  <a:chExt cx="1769760" cy="1899360"/>
                </a:xfrm>
              </p:grpSpPr>
              <p:sp>
                <p:nvSpPr>
                  <p:cNvPr id="696" name=""/>
                  <p:cNvSpPr/>
                  <p:nvPr/>
                </p:nvSpPr>
                <p:spPr>
                  <a:xfrm rot="19825800">
                    <a:off x="3654360" y="421380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 rot="19825800">
                    <a:off x="3607920" y="393732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 rot="19825800">
                    <a:off x="4467960" y="44420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 rot="19825800">
                    <a:off x="3601080" y="49338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 rot="14425800">
                    <a:off x="4014360" y="455472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01" name=""/>
              <p:cNvGrpSpPr/>
              <p:nvPr/>
            </p:nvGrpSpPr>
            <p:grpSpPr>
              <a:xfrm>
                <a:off x="3481200" y="3825720"/>
                <a:ext cx="2644200" cy="2395800"/>
                <a:chOff x="3481200" y="3825720"/>
                <a:chExt cx="2644200" cy="2395800"/>
              </a:xfrm>
            </p:grpSpPr>
            <p:grpSp>
              <p:nvGrpSpPr>
                <p:cNvPr id="702" name=""/>
                <p:cNvGrpSpPr/>
                <p:nvPr/>
              </p:nvGrpSpPr>
              <p:grpSpPr>
                <a:xfrm>
                  <a:off x="4343760" y="4320720"/>
                  <a:ext cx="1769760" cy="1899000"/>
                  <a:chOff x="4343760" y="4320720"/>
                  <a:chExt cx="1769760" cy="1899000"/>
                </a:xfrm>
              </p:grpSpPr>
              <p:sp>
                <p:nvSpPr>
                  <p:cNvPr id="703" name=""/>
                  <p:cNvSpPr/>
                  <p:nvPr/>
                </p:nvSpPr>
                <p:spPr>
                  <a:xfrm rot="19825800">
                    <a:off x="4517640" y="471708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 rot="19825800">
                    <a:off x="4470840" y="444096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 rot="19825800">
                    <a:off x="5330880" y="49453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 rot="19825800">
                    <a:off x="4464000" y="54370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 rot="14425800">
                    <a:off x="4877640" y="505800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8" name=""/>
                <p:cNvGrpSpPr/>
                <p:nvPr/>
              </p:nvGrpSpPr>
              <p:grpSpPr>
                <a:xfrm>
                  <a:off x="4356000" y="3825720"/>
                  <a:ext cx="1769400" cy="1899360"/>
                  <a:chOff x="4356000" y="3825720"/>
                  <a:chExt cx="1769400" cy="1899360"/>
                </a:xfrm>
              </p:grpSpPr>
              <p:sp>
                <p:nvSpPr>
                  <p:cNvPr id="709" name=""/>
                  <p:cNvSpPr/>
                  <p:nvPr/>
                </p:nvSpPr>
                <p:spPr>
                  <a:xfrm flipV="1" rot="19825800">
                    <a:off x="4954680" y="446688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 flipV="1" rot="19825800">
                    <a:off x="5335200" y="494244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 flipV="1" rot="19825800">
                    <a:off x="5342760" y="39459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 flipV="1" rot="19825800">
                    <a:off x="4476240" y="44377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 flipV="1" rot="3625800">
                    <a:off x="5187600" y="458388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4" name=""/>
                <p:cNvGrpSpPr/>
                <p:nvPr/>
              </p:nvGrpSpPr>
              <p:grpSpPr>
                <a:xfrm>
                  <a:off x="3481200" y="4322160"/>
                  <a:ext cx="1769400" cy="1899360"/>
                  <a:chOff x="3481200" y="4322160"/>
                  <a:chExt cx="1769400" cy="1899360"/>
                </a:xfrm>
              </p:grpSpPr>
              <p:sp>
                <p:nvSpPr>
                  <p:cNvPr id="715" name=""/>
                  <p:cNvSpPr/>
                  <p:nvPr/>
                </p:nvSpPr>
                <p:spPr>
                  <a:xfrm flipV="1" rot="19825800">
                    <a:off x="4079880" y="496332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 flipV="1" rot="19825800">
                    <a:off x="4460400" y="543888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 flipV="1" rot="19825800">
                    <a:off x="4467960" y="44424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 flipV="1" rot="19825800">
                    <a:off x="3601440" y="49341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 flipV="1" rot="3625800">
                    <a:off x="4312800" y="507996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20" name=""/>
            <p:cNvGrpSpPr/>
            <p:nvPr/>
          </p:nvGrpSpPr>
          <p:grpSpPr>
            <a:xfrm>
              <a:off x="5209200" y="3333240"/>
              <a:ext cx="2644920" cy="2900520"/>
              <a:chOff x="5209200" y="3333240"/>
              <a:chExt cx="2644920" cy="2900520"/>
            </a:xfrm>
          </p:grpSpPr>
          <p:grpSp>
            <p:nvGrpSpPr>
              <p:cNvPr id="721" name=""/>
              <p:cNvGrpSpPr/>
              <p:nvPr/>
            </p:nvGrpSpPr>
            <p:grpSpPr>
              <a:xfrm>
                <a:off x="5209200" y="3333240"/>
                <a:ext cx="2644560" cy="2395440"/>
                <a:chOff x="5209200" y="3333240"/>
                <a:chExt cx="2644560" cy="2395440"/>
              </a:xfrm>
            </p:grpSpPr>
            <p:grpSp>
              <p:nvGrpSpPr>
                <p:cNvPr id="722" name=""/>
                <p:cNvGrpSpPr/>
                <p:nvPr/>
              </p:nvGrpSpPr>
              <p:grpSpPr>
                <a:xfrm>
                  <a:off x="5220360" y="3335400"/>
                  <a:ext cx="1769400" cy="1899360"/>
                  <a:chOff x="5220360" y="3335400"/>
                  <a:chExt cx="1769400" cy="1899360"/>
                </a:xfrm>
              </p:grpSpPr>
              <p:sp>
                <p:nvSpPr>
                  <p:cNvPr id="723" name=""/>
                  <p:cNvSpPr/>
                  <p:nvPr/>
                </p:nvSpPr>
                <p:spPr>
                  <a:xfrm flipV="1" rot="19825800">
                    <a:off x="5819040" y="397656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 flipV="1" rot="19825800">
                    <a:off x="6199200" y="445212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 flipV="1" rot="19825800">
                    <a:off x="6207120" y="34556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 flipV="1" rot="19825800">
                    <a:off x="5340600" y="39474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 flipV="1" rot="3625800">
                    <a:off x="6051960" y="409356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8" name=""/>
                <p:cNvGrpSpPr/>
                <p:nvPr/>
              </p:nvGrpSpPr>
              <p:grpSpPr>
                <a:xfrm>
                  <a:off x="6084000" y="3333240"/>
                  <a:ext cx="1769760" cy="1899000"/>
                  <a:chOff x="6084000" y="3333240"/>
                  <a:chExt cx="1769760" cy="1899000"/>
                </a:xfrm>
              </p:grpSpPr>
              <p:sp>
                <p:nvSpPr>
                  <p:cNvPr id="729" name=""/>
                  <p:cNvSpPr/>
                  <p:nvPr/>
                </p:nvSpPr>
                <p:spPr>
                  <a:xfrm rot="19825800">
                    <a:off x="6257880" y="372960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 rot="19825800">
                    <a:off x="6211080" y="345348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 rot="19825800">
                    <a:off x="7071120" y="39578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 rot="19825800">
                    <a:off x="6204240" y="44496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 rot="14425800">
                    <a:off x="6617880" y="407052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4" name=""/>
                <p:cNvGrpSpPr/>
                <p:nvPr/>
              </p:nvGrpSpPr>
              <p:grpSpPr>
                <a:xfrm>
                  <a:off x="5209200" y="3829680"/>
                  <a:ext cx="1769760" cy="1899000"/>
                  <a:chOff x="5209200" y="3829680"/>
                  <a:chExt cx="1769760" cy="1899000"/>
                </a:xfrm>
              </p:grpSpPr>
              <p:sp>
                <p:nvSpPr>
                  <p:cNvPr id="735" name=""/>
                  <p:cNvSpPr/>
                  <p:nvPr/>
                </p:nvSpPr>
                <p:spPr>
                  <a:xfrm rot="19825800">
                    <a:off x="5383080" y="422604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 rot="19825800">
                    <a:off x="5336280" y="394992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 rot="19825800">
                    <a:off x="6196320" y="44542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 rot="19825800">
                    <a:off x="5329440" y="49460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 rot="14425800">
                    <a:off x="5743080" y="456696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0" name=""/>
              <p:cNvGrpSpPr/>
              <p:nvPr/>
            </p:nvGrpSpPr>
            <p:grpSpPr>
              <a:xfrm>
                <a:off x="5209560" y="3837960"/>
                <a:ext cx="2644560" cy="2395800"/>
                <a:chOff x="5209560" y="3837960"/>
                <a:chExt cx="2644560" cy="2395800"/>
              </a:xfrm>
            </p:grpSpPr>
            <p:grpSp>
              <p:nvGrpSpPr>
                <p:cNvPr id="741" name=""/>
                <p:cNvGrpSpPr/>
                <p:nvPr/>
              </p:nvGrpSpPr>
              <p:grpSpPr>
                <a:xfrm>
                  <a:off x="6072120" y="4332960"/>
                  <a:ext cx="1769760" cy="1899000"/>
                  <a:chOff x="6072120" y="4332960"/>
                  <a:chExt cx="1769760" cy="1899000"/>
                </a:xfrm>
              </p:grpSpPr>
              <p:sp>
                <p:nvSpPr>
                  <p:cNvPr id="742" name=""/>
                  <p:cNvSpPr/>
                  <p:nvPr/>
                </p:nvSpPr>
                <p:spPr>
                  <a:xfrm rot="19825800">
                    <a:off x="6246000" y="472932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 rot="19825800">
                    <a:off x="6199200" y="445320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 rot="19825800">
                    <a:off x="7059240" y="49575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 rot="19825800">
                    <a:off x="6192360" y="54493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 rot="14425800">
                    <a:off x="6606000" y="507024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7" name=""/>
                <p:cNvGrpSpPr/>
                <p:nvPr/>
              </p:nvGrpSpPr>
              <p:grpSpPr>
                <a:xfrm>
                  <a:off x="6084360" y="3837960"/>
                  <a:ext cx="1769760" cy="1899720"/>
                  <a:chOff x="6084360" y="3837960"/>
                  <a:chExt cx="1769760" cy="1899720"/>
                </a:xfrm>
              </p:grpSpPr>
              <p:sp>
                <p:nvSpPr>
                  <p:cNvPr id="748" name=""/>
                  <p:cNvSpPr/>
                  <p:nvPr/>
                </p:nvSpPr>
                <p:spPr>
                  <a:xfrm flipV="1" rot="19825800">
                    <a:off x="6683400" y="447912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 flipV="1" rot="19825800">
                    <a:off x="7063560" y="495504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 flipV="1" rot="19825800">
                    <a:off x="7071480" y="39582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 flipV="1" rot="19825800">
                    <a:off x="6204600" y="44499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 flipV="1" rot="3625800">
                    <a:off x="6915960" y="459612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3" name=""/>
                <p:cNvGrpSpPr/>
                <p:nvPr/>
              </p:nvGrpSpPr>
              <p:grpSpPr>
                <a:xfrm>
                  <a:off x="5209560" y="4334400"/>
                  <a:ext cx="1769760" cy="1899360"/>
                  <a:chOff x="5209560" y="4334400"/>
                  <a:chExt cx="1769760" cy="1899360"/>
                </a:xfrm>
              </p:grpSpPr>
              <p:sp>
                <p:nvSpPr>
                  <p:cNvPr id="754" name=""/>
                  <p:cNvSpPr/>
                  <p:nvPr/>
                </p:nvSpPr>
                <p:spPr>
                  <a:xfrm flipV="1" rot="19825800">
                    <a:off x="5808240" y="497556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 flipV="1" rot="19825800">
                    <a:off x="6188760" y="545112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 flipV="1" rot="19825800">
                    <a:off x="6196680" y="44546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 flipV="1" rot="19825800">
                    <a:off x="5329800" y="49464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 flipV="1" rot="3625800">
                    <a:off x="6041160" y="509220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59" name=""/>
            <p:cNvGrpSpPr/>
            <p:nvPr/>
          </p:nvGrpSpPr>
          <p:grpSpPr>
            <a:xfrm>
              <a:off x="5232960" y="341280"/>
              <a:ext cx="2644920" cy="2900520"/>
              <a:chOff x="5232960" y="341280"/>
              <a:chExt cx="2644920" cy="2900520"/>
            </a:xfrm>
          </p:grpSpPr>
          <p:grpSp>
            <p:nvGrpSpPr>
              <p:cNvPr id="760" name=""/>
              <p:cNvGrpSpPr/>
              <p:nvPr/>
            </p:nvGrpSpPr>
            <p:grpSpPr>
              <a:xfrm>
                <a:off x="5232960" y="341280"/>
                <a:ext cx="2644560" cy="2395440"/>
                <a:chOff x="5232960" y="341280"/>
                <a:chExt cx="2644560" cy="2395440"/>
              </a:xfrm>
            </p:grpSpPr>
            <p:grpSp>
              <p:nvGrpSpPr>
                <p:cNvPr id="761" name=""/>
                <p:cNvGrpSpPr/>
                <p:nvPr/>
              </p:nvGrpSpPr>
              <p:grpSpPr>
                <a:xfrm>
                  <a:off x="5244120" y="343440"/>
                  <a:ext cx="1769400" cy="1899360"/>
                  <a:chOff x="5244120" y="343440"/>
                  <a:chExt cx="1769400" cy="1899360"/>
                </a:xfrm>
              </p:grpSpPr>
              <p:sp>
                <p:nvSpPr>
                  <p:cNvPr id="762" name=""/>
                  <p:cNvSpPr/>
                  <p:nvPr/>
                </p:nvSpPr>
                <p:spPr>
                  <a:xfrm flipV="1" rot="19825800">
                    <a:off x="5842800" y="98460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 flipV="1" rot="19825800">
                    <a:off x="6222960" y="146016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 flipV="1" rot="19825800">
                    <a:off x="6230880" y="4636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 flipV="1" rot="19825800">
                    <a:off x="5364360" y="9554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 flipV="1" rot="3625800">
                    <a:off x="6075720" y="110124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7" name=""/>
                <p:cNvGrpSpPr/>
                <p:nvPr/>
              </p:nvGrpSpPr>
              <p:grpSpPr>
                <a:xfrm>
                  <a:off x="6107760" y="341280"/>
                  <a:ext cx="1769760" cy="1899000"/>
                  <a:chOff x="6107760" y="341280"/>
                  <a:chExt cx="1769760" cy="1899000"/>
                </a:xfrm>
              </p:grpSpPr>
              <p:sp>
                <p:nvSpPr>
                  <p:cNvPr id="768" name=""/>
                  <p:cNvSpPr/>
                  <p:nvPr/>
                </p:nvSpPr>
                <p:spPr>
                  <a:xfrm rot="19825800">
                    <a:off x="6281640" y="73764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 rot="19825800">
                    <a:off x="6234840" y="46152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 rot="19825800">
                    <a:off x="7094880" y="9658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 rot="19825800">
                    <a:off x="6228000" y="14576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 rot="14425800">
                    <a:off x="6641640" y="107856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3" name=""/>
                <p:cNvGrpSpPr/>
                <p:nvPr/>
              </p:nvGrpSpPr>
              <p:grpSpPr>
                <a:xfrm>
                  <a:off x="5232960" y="837360"/>
                  <a:ext cx="1769760" cy="1899360"/>
                  <a:chOff x="5232960" y="837360"/>
                  <a:chExt cx="1769760" cy="1899360"/>
                </a:xfrm>
              </p:grpSpPr>
              <p:sp>
                <p:nvSpPr>
                  <p:cNvPr id="774" name=""/>
                  <p:cNvSpPr/>
                  <p:nvPr/>
                </p:nvSpPr>
                <p:spPr>
                  <a:xfrm rot="19825800">
                    <a:off x="5406840" y="123408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 rot="19825800">
                    <a:off x="5360040" y="95760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 rot="19825800">
                    <a:off x="6220080" y="14623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 rot="19825800">
                    <a:off x="5353200" y="19540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 rot="14425800">
                    <a:off x="5766840" y="157500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79" name=""/>
              <p:cNvGrpSpPr/>
              <p:nvPr/>
            </p:nvGrpSpPr>
            <p:grpSpPr>
              <a:xfrm>
                <a:off x="5233320" y="846000"/>
                <a:ext cx="2644560" cy="2395800"/>
                <a:chOff x="5233320" y="846000"/>
                <a:chExt cx="2644560" cy="2395800"/>
              </a:xfrm>
            </p:grpSpPr>
            <p:grpSp>
              <p:nvGrpSpPr>
                <p:cNvPr id="780" name=""/>
                <p:cNvGrpSpPr/>
                <p:nvPr/>
              </p:nvGrpSpPr>
              <p:grpSpPr>
                <a:xfrm>
                  <a:off x="6096240" y="1340640"/>
                  <a:ext cx="1769400" cy="1899360"/>
                  <a:chOff x="6096240" y="1340640"/>
                  <a:chExt cx="1769400" cy="1899360"/>
                </a:xfrm>
              </p:grpSpPr>
              <p:sp>
                <p:nvSpPr>
                  <p:cNvPr id="781" name=""/>
                  <p:cNvSpPr/>
                  <p:nvPr/>
                </p:nvSpPr>
                <p:spPr>
                  <a:xfrm rot="19825800">
                    <a:off x="6269760" y="173736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 rot="19825800">
                    <a:off x="6223320" y="146088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 rot="19825800">
                    <a:off x="7083000" y="19656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 rot="19825800">
                    <a:off x="6216480" y="24573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 rot="14425800">
                    <a:off x="6629760" y="207828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6" name=""/>
                <p:cNvGrpSpPr/>
                <p:nvPr/>
              </p:nvGrpSpPr>
              <p:grpSpPr>
                <a:xfrm>
                  <a:off x="6108120" y="846000"/>
                  <a:ext cx="1769760" cy="1899360"/>
                  <a:chOff x="6108120" y="846000"/>
                  <a:chExt cx="1769760" cy="1899360"/>
                </a:xfrm>
              </p:grpSpPr>
              <p:sp>
                <p:nvSpPr>
                  <p:cNvPr id="787" name=""/>
                  <p:cNvSpPr/>
                  <p:nvPr/>
                </p:nvSpPr>
                <p:spPr>
                  <a:xfrm flipV="1" rot="19825800">
                    <a:off x="6707160" y="148716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 flipV="1" rot="19825800">
                    <a:off x="7087320" y="196272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 flipV="1" rot="19825800">
                    <a:off x="7095240" y="9662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 flipV="1" rot="19825800">
                    <a:off x="6228360" y="14580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 flipV="1" rot="3625800">
                    <a:off x="6939720" y="160416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2" name=""/>
                <p:cNvGrpSpPr/>
                <p:nvPr/>
              </p:nvGrpSpPr>
              <p:grpSpPr>
                <a:xfrm>
                  <a:off x="5233320" y="1342440"/>
                  <a:ext cx="1769760" cy="1899360"/>
                  <a:chOff x="5233320" y="1342440"/>
                  <a:chExt cx="1769760" cy="1899360"/>
                </a:xfrm>
              </p:grpSpPr>
              <p:sp>
                <p:nvSpPr>
                  <p:cNvPr id="793" name=""/>
                  <p:cNvSpPr/>
                  <p:nvPr/>
                </p:nvSpPr>
                <p:spPr>
                  <a:xfrm flipV="1" rot="19825800">
                    <a:off x="5832360" y="198360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 flipV="1" rot="19825800">
                    <a:off x="6212520" y="245916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 flipV="1" rot="19825800">
                    <a:off x="6220440" y="14626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 flipV="1" rot="19825800">
                    <a:off x="5353560" y="19544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 flipV="1" rot="3625800">
                    <a:off x="6064920" y="210024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98" name=""/>
            <p:cNvGrpSpPr/>
            <p:nvPr/>
          </p:nvGrpSpPr>
          <p:grpSpPr>
            <a:xfrm>
              <a:off x="3492720" y="334440"/>
              <a:ext cx="2644920" cy="2900520"/>
              <a:chOff x="3492720" y="334440"/>
              <a:chExt cx="2644920" cy="2900520"/>
            </a:xfrm>
          </p:grpSpPr>
          <p:grpSp>
            <p:nvGrpSpPr>
              <p:cNvPr id="799" name=""/>
              <p:cNvGrpSpPr/>
              <p:nvPr/>
            </p:nvGrpSpPr>
            <p:grpSpPr>
              <a:xfrm>
                <a:off x="3492720" y="334440"/>
                <a:ext cx="2644560" cy="2395440"/>
                <a:chOff x="3492720" y="334440"/>
                <a:chExt cx="2644560" cy="2395440"/>
              </a:xfrm>
            </p:grpSpPr>
            <p:grpSp>
              <p:nvGrpSpPr>
                <p:cNvPr id="800" name=""/>
                <p:cNvGrpSpPr/>
                <p:nvPr/>
              </p:nvGrpSpPr>
              <p:grpSpPr>
                <a:xfrm>
                  <a:off x="3503880" y="336600"/>
                  <a:ext cx="1769400" cy="1899360"/>
                  <a:chOff x="3503880" y="336600"/>
                  <a:chExt cx="1769400" cy="1899360"/>
                </a:xfrm>
              </p:grpSpPr>
              <p:sp>
                <p:nvSpPr>
                  <p:cNvPr id="801" name=""/>
                  <p:cNvSpPr/>
                  <p:nvPr/>
                </p:nvSpPr>
                <p:spPr>
                  <a:xfrm flipV="1" rot="19825800">
                    <a:off x="4102560" y="97776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 flipV="1" rot="19825800">
                    <a:off x="4482720" y="145332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 flipV="1" rot="19825800">
                    <a:off x="4490640" y="4568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 flipV="1" rot="19825800">
                    <a:off x="3624120" y="9486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 flipV="1" rot="3625800">
                    <a:off x="4335480" y="109440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6" name=""/>
                <p:cNvGrpSpPr/>
                <p:nvPr/>
              </p:nvGrpSpPr>
              <p:grpSpPr>
                <a:xfrm>
                  <a:off x="4367880" y="334440"/>
                  <a:ext cx="1769400" cy="1899000"/>
                  <a:chOff x="4367880" y="334440"/>
                  <a:chExt cx="1769400" cy="1899000"/>
                </a:xfrm>
              </p:grpSpPr>
              <p:sp>
                <p:nvSpPr>
                  <p:cNvPr id="807" name=""/>
                  <p:cNvSpPr/>
                  <p:nvPr/>
                </p:nvSpPr>
                <p:spPr>
                  <a:xfrm rot="19825800">
                    <a:off x="4541400" y="73080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 rot="19825800">
                    <a:off x="4494600" y="45468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 rot="19825800">
                    <a:off x="5354640" y="9590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 rot="19825800">
                    <a:off x="4488120" y="14508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 rot="14425800">
                    <a:off x="4901400" y="107172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2" name=""/>
                <p:cNvGrpSpPr/>
                <p:nvPr/>
              </p:nvGrpSpPr>
              <p:grpSpPr>
                <a:xfrm>
                  <a:off x="3492720" y="830520"/>
                  <a:ext cx="1769760" cy="1899360"/>
                  <a:chOff x="3492720" y="830520"/>
                  <a:chExt cx="1769760" cy="1899360"/>
                </a:xfrm>
              </p:grpSpPr>
              <p:sp>
                <p:nvSpPr>
                  <p:cNvPr id="813" name=""/>
                  <p:cNvSpPr/>
                  <p:nvPr/>
                </p:nvSpPr>
                <p:spPr>
                  <a:xfrm rot="19825800">
                    <a:off x="3666600" y="122724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 rot="19825800">
                    <a:off x="3619800" y="95076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 rot="19825800">
                    <a:off x="4479840" y="14554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 rot="19825800">
                    <a:off x="3612960" y="19472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 rot="14425800">
                    <a:off x="4026600" y="156816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18" name=""/>
              <p:cNvGrpSpPr/>
              <p:nvPr/>
            </p:nvGrpSpPr>
            <p:grpSpPr>
              <a:xfrm>
                <a:off x="3493080" y="839160"/>
                <a:ext cx="2644560" cy="2395800"/>
                <a:chOff x="3493080" y="839160"/>
                <a:chExt cx="2644560" cy="2395800"/>
              </a:xfrm>
            </p:grpSpPr>
            <p:grpSp>
              <p:nvGrpSpPr>
                <p:cNvPr id="819" name=""/>
                <p:cNvGrpSpPr/>
                <p:nvPr/>
              </p:nvGrpSpPr>
              <p:grpSpPr>
                <a:xfrm>
                  <a:off x="4356000" y="1334160"/>
                  <a:ext cx="1769400" cy="1899000"/>
                  <a:chOff x="4356000" y="1334160"/>
                  <a:chExt cx="1769400" cy="1899000"/>
                </a:xfrm>
              </p:grpSpPr>
              <p:sp>
                <p:nvSpPr>
                  <p:cNvPr id="820" name=""/>
                  <p:cNvSpPr/>
                  <p:nvPr/>
                </p:nvSpPr>
                <p:spPr>
                  <a:xfrm rot="19825800">
                    <a:off x="4529520" y="173052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 rot="19825800">
                    <a:off x="4483080" y="145440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 rot="19825800">
                    <a:off x="5342760" y="19587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 rot="19825800">
                    <a:off x="4476240" y="24505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 rot="14425800">
                    <a:off x="4889520" y="207144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5" name=""/>
                <p:cNvGrpSpPr/>
                <p:nvPr/>
              </p:nvGrpSpPr>
              <p:grpSpPr>
                <a:xfrm>
                  <a:off x="4367880" y="839160"/>
                  <a:ext cx="1769760" cy="1899360"/>
                  <a:chOff x="4367880" y="839160"/>
                  <a:chExt cx="1769760" cy="1899360"/>
                </a:xfrm>
              </p:grpSpPr>
              <p:sp>
                <p:nvSpPr>
                  <p:cNvPr id="826" name=""/>
                  <p:cNvSpPr/>
                  <p:nvPr/>
                </p:nvSpPr>
                <p:spPr>
                  <a:xfrm flipV="1" rot="19825800">
                    <a:off x="4966920" y="148032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 flipV="1" rot="19825800">
                    <a:off x="5347080" y="195588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 flipV="1" rot="19825800">
                    <a:off x="5355000" y="9594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 flipV="1" rot="19825800">
                    <a:off x="4488120" y="14511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 flipV="1" rot="3625800">
                    <a:off x="5199480" y="159732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1" name=""/>
                <p:cNvGrpSpPr/>
                <p:nvPr/>
              </p:nvGrpSpPr>
              <p:grpSpPr>
                <a:xfrm>
                  <a:off x="3493080" y="1335600"/>
                  <a:ext cx="1769760" cy="1899360"/>
                  <a:chOff x="3493080" y="1335600"/>
                  <a:chExt cx="1769760" cy="1899360"/>
                </a:xfrm>
              </p:grpSpPr>
              <p:sp>
                <p:nvSpPr>
                  <p:cNvPr id="832" name=""/>
                  <p:cNvSpPr/>
                  <p:nvPr/>
                </p:nvSpPr>
                <p:spPr>
                  <a:xfrm flipV="1" rot="19825800">
                    <a:off x="4092120" y="197676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 flipV="1" rot="19825800">
                    <a:off x="4472280" y="245232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 flipV="1" rot="19825800">
                    <a:off x="4480200" y="145584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 flipV="1" rot="19825800">
                    <a:off x="3613320" y="19476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 flipV="1" rot="3625800">
                    <a:off x="4324680" y="209340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37" name=""/>
            <p:cNvGrpSpPr/>
            <p:nvPr/>
          </p:nvGrpSpPr>
          <p:grpSpPr>
            <a:xfrm>
              <a:off x="1764720" y="321840"/>
              <a:ext cx="2644560" cy="2900880"/>
              <a:chOff x="1764720" y="321840"/>
              <a:chExt cx="2644560" cy="2900880"/>
            </a:xfrm>
          </p:grpSpPr>
          <p:grpSp>
            <p:nvGrpSpPr>
              <p:cNvPr id="838" name=""/>
              <p:cNvGrpSpPr/>
              <p:nvPr/>
            </p:nvGrpSpPr>
            <p:grpSpPr>
              <a:xfrm>
                <a:off x="1764720" y="321840"/>
                <a:ext cx="2644560" cy="2396160"/>
                <a:chOff x="1764720" y="321840"/>
                <a:chExt cx="2644560" cy="2396160"/>
              </a:xfrm>
            </p:grpSpPr>
            <p:grpSp>
              <p:nvGrpSpPr>
                <p:cNvPr id="839" name=""/>
                <p:cNvGrpSpPr/>
                <p:nvPr/>
              </p:nvGrpSpPr>
              <p:grpSpPr>
                <a:xfrm>
                  <a:off x="1775520" y="324360"/>
                  <a:ext cx="1769400" cy="1900440"/>
                  <a:chOff x="1775520" y="324360"/>
                  <a:chExt cx="1769400" cy="1900440"/>
                </a:xfrm>
              </p:grpSpPr>
              <p:sp>
                <p:nvSpPr>
                  <p:cNvPr id="840" name=""/>
                  <p:cNvSpPr/>
                  <p:nvPr/>
                </p:nvSpPr>
                <p:spPr>
                  <a:xfrm flipV="1" rot="19825800">
                    <a:off x="2374200" y="96516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 flipV="1" rot="19825800">
                    <a:off x="2755080" y="14421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 flipV="1" rot="19825800">
                    <a:off x="2762280" y="4446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 flipV="1" rot="19825800">
                    <a:off x="1895760" y="9363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 flipV="1" rot="3625800">
                    <a:off x="2607120" y="108252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5" name=""/>
                <p:cNvGrpSpPr/>
                <p:nvPr/>
              </p:nvGrpSpPr>
              <p:grpSpPr>
                <a:xfrm>
                  <a:off x="2639520" y="321840"/>
                  <a:ext cx="1769760" cy="1899720"/>
                  <a:chOff x="2639520" y="321840"/>
                  <a:chExt cx="1769760" cy="1899720"/>
                </a:xfrm>
              </p:grpSpPr>
              <p:sp>
                <p:nvSpPr>
                  <p:cNvPr id="846" name=""/>
                  <p:cNvSpPr/>
                  <p:nvPr/>
                </p:nvSpPr>
                <p:spPr>
                  <a:xfrm rot="19825800">
                    <a:off x="2813400" y="71928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 rot="19825800">
                    <a:off x="2766600" y="4420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 rot="19825800">
                    <a:off x="3626640" y="9475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 rot="19825800">
                    <a:off x="2759760" y="14389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 rot="14425800">
                    <a:off x="3173040" y="105984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1" name=""/>
                <p:cNvGrpSpPr/>
                <p:nvPr/>
              </p:nvGrpSpPr>
              <p:grpSpPr>
                <a:xfrm>
                  <a:off x="1764720" y="817920"/>
                  <a:ext cx="1769760" cy="1900080"/>
                  <a:chOff x="1764720" y="817920"/>
                  <a:chExt cx="1769760" cy="1900080"/>
                </a:xfrm>
              </p:grpSpPr>
              <p:sp>
                <p:nvSpPr>
                  <p:cNvPr id="852" name=""/>
                  <p:cNvSpPr/>
                  <p:nvPr/>
                </p:nvSpPr>
                <p:spPr>
                  <a:xfrm rot="19825800">
                    <a:off x="1938600" y="121572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 rot="19825800">
                    <a:off x="1891800" y="9381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 rot="19825800">
                    <a:off x="2751840" y="14436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 rot="19825800">
                    <a:off x="1884960" y="19353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 rot="14425800">
                    <a:off x="2298240" y="155628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7" name=""/>
              <p:cNvGrpSpPr/>
              <p:nvPr/>
            </p:nvGrpSpPr>
            <p:grpSpPr>
              <a:xfrm>
                <a:off x="1764720" y="826920"/>
                <a:ext cx="2644560" cy="2395800"/>
                <a:chOff x="1764720" y="826920"/>
                <a:chExt cx="2644560" cy="2395800"/>
              </a:xfrm>
            </p:grpSpPr>
            <p:grpSp>
              <p:nvGrpSpPr>
                <p:cNvPr id="858" name=""/>
                <p:cNvGrpSpPr/>
                <p:nvPr/>
              </p:nvGrpSpPr>
              <p:grpSpPr>
                <a:xfrm>
                  <a:off x="2627280" y="1321560"/>
                  <a:ext cx="1769760" cy="1899360"/>
                  <a:chOff x="2627280" y="1321560"/>
                  <a:chExt cx="1769760" cy="1899360"/>
                </a:xfrm>
              </p:grpSpPr>
              <p:sp>
                <p:nvSpPr>
                  <p:cNvPr id="859" name=""/>
                  <p:cNvSpPr/>
                  <p:nvPr/>
                </p:nvSpPr>
                <p:spPr>
                  <a:xfrm rot="19825800">
                    <a:off x="2801160" y="171828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 rot="19825800">
                    <a:off x="2754360" y="144180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 rot="19825800">
                    <a:off x="3614400" y="19465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 rot="19825800">
                    <a:off x="2747520" y="243828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 rot="14425800">
                    <a:off x="3161160" y="205920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4" name=""/>
                <p:cNvGrpSpPr/>
                <p:nvPr/>
              </p:nvGrpSpPr>
              <p:grpSpPr>
                <a:xfrm>
                  <a:off x="2639520" y="826920"/>
                  <a:ext cx="1769760" cy="1899360"/>
                  <a:chOff x="2639520" y="826920"/>
                  <a:chExt cx="1769760" cy="1899360"/>
                </a:xfrm>
              </p:grpSpPr>
              <p:sp>
                <p:nvSpPr>
                  <p:cNvPr id="865" name=""/>
                  <p:cNvSpPr/>
                  <p:nvPr/>
                </p:nvSpPr>
                <p:spPr>
                  <a:xfrm flipV="1" rot="19825800">
                    <a:off x="3238560" y="146808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 flipV="1" rot="19825800">
                    <a:off x="3618720" y="194364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 flipV="1" rot="19825800">
                    <a:off x="3626640" y="9471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 flipV="1" rot="19825800">
                    <a:off x="2759760" y="143892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 flipV="1" rot="3625800">
                    <a:off x="3471120" y="158472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0" name=""/>
                <p:cNvGrpSpPr/>
                <p:nvPr/>
              </p:nvGrpSpPr>
              <p:grpSpPr>
                <a:xfrm>
                  <a:off x="1764720" y="1323360"/>
                  <a:ext cx="1769760" cy="1899360"/>
                  <a:chOff x="1764720" y="1323360"/>
                  <a:chExt cx="1769760" cy="1899360"/>
                </a:xfrm>
              </p:grpSpPr>
              <p:sp>
                <p:nvSpPr>
                  <p:cNvPr id="871" name=""/>
                  <p:cNvSpPr/>
                  <p:nvPr/>
                </p:nvSpPr>
                <p:spPr>
                  <a:xfrm flipV="1" rot="19825800">
                    <a:off x="2363400" y="1964160"/>
                    <a:ext cx="996480" cy="8618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 flipV="1" rot="19825800">
                    <a:off x="2743920" y="2440080"/>
                    <a:ext cx="662400" cy="662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 flipV="1" rot="19825800">
                    <a:off x="2751840" y="144360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 flipV="1" rot="19825800">
                    <a:off x="1884960" y="1935360"/>
                    <a:ext cx="662400" cy="662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 flipV="1" rot="3625800">
                    <a:off x="2596320" y="2081160"/>
                    <a:ext cx="403200" cy="4032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76" name=""/>
          <p:cNvSpPr/>
          <p:nvPr/>
        </p:nvSpPr>
        <p:spPr>
          <a:xfrm>
            <a:off x="4651200" y="3379680"/>
            <a:ext cx="1936800" cy="1936800"/>
          </a:xfrm>
          <a:prstGeom prst="ellipse">
            <a:avLst/>
          </a:prstGeom>
          <a:solidFill>
            <a:srgbClr val="66ff66">
              <a:alpha val="4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340000" y="2038320"/>
            <a:ext cx="1414440" cy="1414440"/>
          </a:xfrm>
          <a:prstGeom prst="ellipse">
            <a:avLst/>
          </a:prstGeom>
          <a:solidFill>
            <a:srgbClr val="66ff66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1936800" y="6165720"/>
            <a:ext cx="68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de cône Cerenkov à 1,5m et 2m de la surface des PM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16000" y="152280"/>
            <a:ext cx="650880" cy="65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rot="16200000">
            <a:off x="7343640" y="190440"/>
            <a:ext cx="395280" cy="395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902880" y="295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’’ (46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832520" y="22536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’’ (28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A7A502-C33A-4466-AFF4-14854A8A956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13:02:48Z</dcterms:created>
  <dc:creator>J.E Campagne</dc:creator>
  <dc:description/>
  <dc:language>en-US</dc:language>
  <cp:lastModifiedBy>J.E Campagne</cp:lastModifiedBy>
  <dcterms:modified xsi:type="dcterms:W3CDTF">2005-10-27T12:36:26Z</dcterms:modified>
  <cp:revision>14</cp:revision>
  <dc:subject/>
  <dc:title>Diapositive 1</dc:title>
</cp:coreProperties>
</file>